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DFC-DDF7-4B9A-85D8-D4315879BC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5B5-B60D-49E5-BBC1-83A1AC86C81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5AD-8E07-4456-BF16-3194B9BA1A0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2028-00C3-416D-B9B5-5F130368FFB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DBED-B1C9-4B06-A159-5D53042E3BA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B69-1EDD-4FFA-986A-B9D3A6AE889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BBDC-3527-4F31-ABA8-A79842B5BF7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4D2-2E4F-47B6-BD51-54365EE00B3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C1C-978C-4E6A-8FAB-3A65399B936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FBE-20EC-4ED6-B039-463C7360E3D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47E3-80A9-447B-9A62-67B5266A8B5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7659-D8C8-49EE-97C0-A5299699CA0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68F7-2158-4A7E-A6CA-6BD7674C290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012-3C94-43E7-956D-799034AA9A1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375-4B12-4C53-AE7C-ADF14BDAB27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BF5-1F86-4E3F-A9A8-A2A3A45F478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7BC-EE11-44D8-98D0-5C466015E62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FA05-35D0-400D-9D9E-505B5CE00E2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89D-39E7-49CB-936F-C43519E0E0E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FE5-0B2B-45D6-979F-DC1D9DC2773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69D0-15B6-4358-BBA8-12FB9257E80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F30-84E5-43EA-8FCA-11BE7533B42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B191-405B-4FF8-AA90-84DC987E39E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2B99-E9BD-4724-98BA-50663F9BB68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1AA-1CAB-41E1-856B-8C53AC2D2A0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CC3-C803-407F-A416-2F4847D6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AF2-5743-4753-8CDB-40136888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4B0-0A47-47A5-B81A-8BAE30B9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9DD-75BE-4AB4-8767-9A7C20B8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F27-A48A-46E5-B425-85EFF90D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ED26-102F-4FD3-8DC9-68D8CDCA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BD2C-0C70-4B32-BA9A-6E4A33E3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0CB-109C-40EB-9D84-48A9A97B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94D-9850-4A75-AB2E-62706477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2071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54F-42DC-4132-B6AC-44A35285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4C3B-960B-42A2-82C2-8C36073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524-869C-4740-81EC-F2BAEFD3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998D-DB42-41A3-A3B9-9CC86FF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FEBD-DB2C-43E2-AC70-29A12D6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754-185C-48E0-BDCB-BB74D8A4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50FA-E03D-49AE-8130-6DB17FA3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B4D-8CD1-481D-92EA-A6A3FB17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3FF-CE70-48C1-8890-32E46E7C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FA9-BE83-4FEE-B344-74753E0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FB3-8E5A-49BD-B9A8-55BDAED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2071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E73-61AC-4286-9D0F-E8CFED2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2A7-38B5-44DA-A947-2753C19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101-9871-4E3E-8C86-7F3A571B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BBE-BC7C-4508-B258-8880A3D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gradFill rotWithShape="0">
            <a:gsLst>
              <a:gs pos="0">
                <a:srgbClr val="b6d29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152280"/>
            <a:ext cx="8413920" cy="685800"/>
            <a:chOff x="152280" y="152280"/>
            <a:chExt cx="8413920" cy="685800"/>
          </a:xfrm>
        </p:grpSpPr>
        <p:sp>
          <p:nvSpPr>
            <p:cNvPr id="2" name=""/>
            <p:cNvSpPr/>
            <p:nvPr/>
          </p:nvSpPr>
          <p:spPr>
            <a:xfrm>
              <a:off x="305604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098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525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5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90340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44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5612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6404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2147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85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112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082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0620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9051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144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23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0176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60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9864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9528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948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9216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0184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0976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18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160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87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57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96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522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9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98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96720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2104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664080" y="36036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96072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1492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65760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067280" y="258840"/>
              <a:ext cx="3312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07520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80528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594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021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7991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5300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568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0536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328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96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38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165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35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74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197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276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812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196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464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164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548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4852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784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65760" y="569880"/>
              <a:ext cx="3204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725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263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90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660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98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9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722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801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1060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6444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748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0412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5832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100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1068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860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38080" y="476280"/>
            <a:ext cx="7696080" cy="533160"/>
            <a:chOff x="838080" y="476280"/>
            <a:chExt cx="7696080" cy="533160"/>
          </a:xfrm>
        </p:grpSpPr>
        <p:sp>
          <p:nvSpPr>
            <p:cNvPr id="83" name=""/>
            <p:cNvSpPr/>
            <p:nvPr/>
          </p:nvSpPr>
          <p:spPr>
            <a:xfrm>
              <a:off x="838080" y="780840"/>
              <a:ext cx="7426080" cy="112680"/>
            </a:xfrm>
            <a:custGeom>
              <a:avLst/>
              <a:gdLst/>
              <a:ahLst/>
              <a:rect l="l" t="t" r="r" b="b"/>
              <a:pathLst>
                <a:path w="4822" h="87">
                  <a:moveTo>
                    <a:pt x="4822" y="84"/>
                  </a:moveTo>
                  <a:lnTo>
                    <a:pt x="114" y="87"/>
                  </a:lnTo>
                  <a:lnTo>
                    <a:pt x="66" y="80"/>
                  </a:lnTo>
                  <a:lnTo>
                    <a:pt x="28" y="73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24" y="14"/>
                  </a:lnTo>
                  <a:lnTo>
                    <a:pt x="59" y="7"/>
                  </a:lnTo>
                  <a:lnTo>
                    <a:pt x="111" y="0"/>
                  </a:lnTo>
                  <a:lnTo>
                    <a:pt x="4812" y="0"/>
                  </a:lnTo>
                  <a:lnTo>
                    <a:pt x="4822" y="84"/>
                  </a:lnTo>
                  <a:close/>
                </a:path>
              </a:pathLst>
            </a:custGeom>
            <a:gradFill rotWithShape="0">
              <a:gsLst>
                <a:gs pos="0">
                  <a:srgbClr val="b6d29a"/>
                </a:gs>
                <a:gs pos="50000">
                  <a:srgbClr val="e5eedc"/>
                </a:gs>
                <a:gs pos="100000">
                  <a:srgbClr val="b6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000640" y="476280"/>
              <a:ext cx="533520" cy="533160"/>
              <a:chOff x="8000640" y="476280"/>
              <a:chExt cx="533520" cy="533160"/>
            </a:xfrm>
          </p:grpSpPr>
          <p:sp>
            <p:nvSpPr>
              <p:cNvPr id="85" name=""/>
              <p:cNvSpPr/>
              <p:nvPr/>
            </p:nvSpPr>
            <p:spPr>
              <a:xfrm>
                <a:off x="8000640" y="47628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79854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59680" y="535320"/>
                <a:ext cx="415080" cy="414720"/>
              </a:xfrm>
              <a:prstGeom prst="ellipse">
                <a:avLst/>
              </a:prstGeom>
              <a:solidFill>
                <a:srgbClr val="798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78480" y="653760"/>
                <a:ext cx="177840" cy="177480"/>
              </a:xfrm>
              <a:prstGeom prst="ellipse">
                <a:avLst/>
              </a:prstGeom>
              <a:gradFill rotWithShape="0">
                <a:gsLst>
                  <a:gs pos="0">
                    <a:srgbClr val="a3c67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264880" y="74304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90640" y="74304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8264880" y="56304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8090640" y="56304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798547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47E-18AC-4C8A-BE89-C1BEBA9F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gradFill rotWithShape="0">
            <a:gsLst>
              <a:gs pos="0">
                <a:srgbClr val="b6d29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152280"/>
            <a:ext cx="8413920" cy="685800"/>
            <a:chOff x="152280" y="152280"/>
            <a:chExt cx="8413920" cy="685800"/>
          </a:xfrm>
        </p:grpSpPr>
        <p:sp>
          <p:nvSpPr>
            <p:cNvPr id="135" name=""/>
            <p:cNvSpPr/>
            <p:nvPr/>
          </p:nvSpPr>
          <p:spPr>
            <a:xfrm>
              <a:off x="305604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98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525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5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340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644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5612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404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147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685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112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82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620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51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144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23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176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560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864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216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184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976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18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0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7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96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2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9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8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720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2104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64080" y="36036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072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1492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7280" y="258840"/>
              <a:ext cx="3312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520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528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94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21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91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300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568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0536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1328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38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65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35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74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97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276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1196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5464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164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548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784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5760" y="569880"/>
              <a:ext cx="3204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725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63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90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0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98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9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22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01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060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6444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748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832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0100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1068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1860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2743200"/>
            <a:ext cx="7696080" cy="533160"/>
            <a:chOff x="762120" y="2743200"/>
            <a:chExt cx="7696080" cy="533160"/>
          </a:xfrm>
        </p:grpSpPr>
        <p:sp>
          <p:nvSpPr>
            <p:cNvPr id="216" name=""/>
            <p:cNvSpPr/>
            <p:nvPr/>
          </p:nvSpPr>
          <p:spPr>
            <a:xfrm>
              <a:off x="762120" y="3047760"/>
              <a:ext cx="7426080" cy="112680"/>
            </a:xfrm>
            <a:custGeom>
              <a:avLst/>
              <a:gdLst/>
              <a:ahLst/>
              <a:rect l="l" t="t" r="r" b="b"/>
              <a:pathLst>
                <a:path w="4822" h="87">
                  <a:moveTo>
                    <a:pt x="4822" y="84"/>
                  </a:moveTo>
                  <a:lnTo>
                    <a:pt x="114" y="87"/>
                  </a:lnTo>
                  <a:lnTo>
                    <a:pt x="66" y="80"/>
                  </a:lnTo>
                  <a:lnTo>
                    <a:pt x="28" y="73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24" y="14"/>
                  </a:lnTo>
                  <a:lnTo>
                    <a:pt x="59" y="7"/>
                  </a:lnTo>
                  <a:lnTo>
                    <a:pt x="111" y="0"/>
                  </a:lnTo>
                  <a:lnTo>
                    <a:pt x="4812" y="0"/>
                  </a:lnTo>
                  <a:lnTo>
                    <a:pt x="4822" y="84"/>
                  </a:lnTo>
                  <a:close/>
                </a:path>
              </a:pathLst>
            </a:custGeom>
            <a:gradFill rotWithShape="0">
              <a:gsLst>
                <a:gs pos="0">
                  <a:srgbClr val="b6d29a"/>
                </a:gs>
                <a:gs pos="50000">
                  <a:srgbClr val="e5eedc"/>
                </a:gs>
                <a:gs pos="100000">
                  <a:srgbClr val="b6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924680" y="2743200"/>
              <a:ext cx="533520" cy="533160"/>
              <a:chOff x="7924680" y="2743200"/>
              <a:chExt cx="533520" cy="533160"/>
            </a:xfrm>
          </p:grpSpPr>
          <p:sp>
            <p:nvSpPr>
              <p:cNvPr id="218" name=""/>
              <p:cNvSpPr/>
              <p:nvPr/>
            </p:nvSpPr>
            <p:spPr>
              <a:xfrm>
                <a:off x="7924680" y="274320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79854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83720" y="2802240"/>
                <a:ext cx="415080" cy="414720"/>
              </a:xfrm>
              <a:prstGeom prst="ellipse">
                <a:avLst/>
              </a:prstGeom>
              <a:solidFill>
                <a:srgbClr val="798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02520" y="2920680"/>
                <a:ext cx="177840" cy="177480"/>
              </a:xfrm>
              <a:prstGeom prst="ellipse">
                <a:avLst/>
              </a:prstGeom>
              <a:gradFill rotWithShape="0">
                <a:gsLst>
                  <a:gs pos="0">
                    <a:srgbClr val="a3c67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188920" y="300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4680" y="300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8188920" y="282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014680" y="282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7F1-1215-44C7-BC32-D43904AC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798547"/>
              </a:buClr>
              <a:buSzPct val="7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Game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1380960" y="4076640"/>
            <a:ext cx="2392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0. 06. 30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1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zh-CN" sz="1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소</a:t>
            </a:r>
            <a:r>
              <a:rPr b="1" lang="en-US" sz="1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SW Grou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 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imple Task Board (Scrum-ba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 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g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 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 and Queue limi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 Games for Toda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タイトル 1"/>
          <p:cNvSpPr/>
          <p:nvPr/>
        </p:nvSpPr>
        <p:spPr>
          <a:xfrm>
            <a:off x="457200" y="2138400"/>
            <a:ext cx="822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Game 1</a:t>
            </a:r>
            <a:br>
              <a:rPr sz="5400"/>
            </a:b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Simple Task Board</a:t>
            </a:r>
            <a:br>
              <a:rPr sz="5400"/>
            </a:b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(or Scrum-ban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1"/>
          <p:cNvGrpSpPr/>
          <p:nvPr/>
        </p:nvGrpSpPr>
        <p:grpSpPr>
          <a:xfrm>
            <a:off x="1143000" y="1714680"/>
            <a:ext cx="6896160" cy="4230000"/>
            <a:chOff x="1143000" y="1714680"/>
            <a:chExt cx="6896160" cy="4230000"/>
          </a:xfrm>
        </p:grpSpPr>
        <p:sp>
          <p:nvSpPr>
            <p:cNvPr id="396" name="Rectangle 22"/>
            <p:cNvSpPr/>
            <p:nvPr/>
          </p:nvSpPr>
          <p:spPr>
            <a:xfrm>
              <a:off x="114300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Rectangle 23"/>
            <p:cNvSpPr/>
            <p:nvPr/>
          </p:nvSpPr>
          <p:spPr>
            <a:xfrm>
              <a:off x="344160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Rectangle 24"/>
            <p:cNvSpPr/>
            <p:nvPr/>
          </p:nvSpPr>
          <p:spPr>
            <a:xfrm>
              <a:off x="5740560" y="1714680"/>
              <a:ext cx="2298600" cy="42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Text Box 25"/>
            <p:cNvSpPr/>
            <p:nvPr/>
          </p:nvSpPr>
          <p:spPr>
            <a:xfrm>
              <a:off x="114300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oDo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Text Box 26"/>
            <p:cNvSpPr/>
            <p:nvPr/>
          </p:nvSpPr>
          <p:spPr>
            <a:xfrm>
              <a:off x="344160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 Progress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 Box 27"/>
            <p:cNvSpPr/>
            <p:nvPr/>
          </p:nvSpPr>
          <p:spPr>
            <a:xfrm>
              <a:off x="5740560" y="1714680"/>
              <a:ext cx="2298600" cy="783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ne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AutoShape 28"/>
            <p:cNvSpPr/>
            <p:nvPr/>
          </p:nvSpPr>
          <p:spPr>
            <a:xfrm>
              <a:off x="1466640" y="2890440"/>
              <a:ext cx="97164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AutoShape 29"/>
            <p:cNvSpPr/>
            <p:nvPr/>
          </p:nvSpPr>
          <p:spPr>
            <a:xfrm>
              <a:off x="1466640" y="4104360"/>
              <a:ext cx="97164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AutoShape 30"/>
            <p:cNvSpPr/>
            <p:nvPr/>
          </p:nvSpPr>
          <p:spPr>
            <a:xfrm>
              <a:off x="3895200" y="2890440"/>
              <a:ext cx="97128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AutoShape 31"/>
            <p:cNvSpPr/>
            <p:nvPr/>
          </p:nvSpPr>
          <p:spPr>
            <a:xfrm>
              <a:off x="6258600" y="2890440"/>
              <a:ext cx="971280" cy="704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AutoShape 17"/>
          <p:cNvSpPr/>
          <p:nvPr/>
        </p:nvSpPr>
        <p:spPr>
          <a:xfrm>
            <a:off x="2467080" y="3730680"/>
            <a:ext cx="1984320" cy="745920"/>
          </a:xfrm>
          <a:custGeom>
            <a:avLst/>
            <a:gdLst>
              <a:gd name="textAreaLeft" fmla="*/ 352440 w 1984320"/>
              <a:gd name="textAreaRight" fmla="*/ 1280880 w 1984320"/>
              <a:gd name="textAreaTop" fmla="*/ 99720 h 745920"/>
              <a:gd name="textAreaBottom" fmla="*/ 646200 h 74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-2282529"/>
                <a:lnTo>
                  <a:pt x="20913" y="8930"/>
                </a:lnTo>
                <a:lnTo>
                  <a:pt x="16565" y="0"/>
                </a:lnTo>
                <a:lnTo>
                  <a:pt x="10842" y="8930"/>
                </a:lnTo>
                <a:lnTo>
                  <a:pt x="14661" y="8930"/>
                </a:lnTo>
                <a:arcTo wR="7674" hR="21600" stAng="3117471" swAng="2086650"/>
                <a:lnTo>
                  <a:pt x="8891" y="21327"/>
                </a:lnTo>
                <a:arcTo wR="7674" hR="21600" stAng="5595879" swAng="520412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195879"/>
                <a:lnTo>
                  <a:pt x="8891" y="21327"/>
                </a:lnTo>
                <a:arcTo wR="7674" hR="21600" stAng="5595879" swAng="5204121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AutoShape 18"/>
          <p:cNvSpPr/>
          <p:nvPr/>
        </p:nvSpPr>
        <p:spPr>
          <a:xfrm>
            <a:off x="4967280" y="3730680"/>
            <a:ext cx="1984320" cy="745920"/>
          </a:xfrm>
          <a:custGeom>
            <a:avLst/>
            <a:gdLst>
              <a:gd name="textAreaLeft" fmla="*/ 352440 w 1984320"/>
              <a:gd name="textAreaRight" fmla="*/ 1280880 w 1984320"/>
              <a:gd name="textAreaTop" fmla="*/ 99720 h 745920"/>
              <a:gd name="textAreaBottom" fmla="*/ 646200 h 74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-2282529"/>
                <a:lnTo>
                  <a:pt x="20913" y="8930"/>
                </a:lnTo>
                <a:lnTo>
                  <a:pt x="16565" y="0"/>
                </a:lnTo>
                <a:lnTo>
                  <a:pt x="10842" y="8930"/>
                </a:lnTo>
                <a:lnTo>
                  <a:pt x="14661" y="8930"/>
                </a:lnTo>
                <a:arcTo wR="7674" hR="21600" stAng="3117471" swAng="2086650"/>
                <a:lnTo>
                  <a:pt x="8891" y="21327"/>
                </a:lnTo>
                <a:arcTo wR="7674" hR="21600" stAng="5595879" swAng="520412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0107" y="21600"/>
                </a:lnTo>
                <a:arcTo wR="7674" hR="21600" stAng="5400000" swAng="195879"/>
                <a:lnTo>
                  <a:pt x="8891" y="21327"/>
                </a:lnTo>
                <a:arcTo wR="7674" hR="21600" stAng="5595879" swAng="5204121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2479680" y="4587840"/>
            <a:ext cx="1793880" cy="538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작업 시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4807080" y="4587840"/>
            <a:ext cx="1854000" cy="538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작업 완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ask Boar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182520" y="965160"/>
            <a:ext cx="3922560" cy="5399280"/>
            <a:chOff x="182520" y="965160"/>
            <a:chExt cx="3922560" cy="5399280"/>
          </a:xfrm>
        </p:grpSpPr>
        <p:sp>
          <p:nvSpPr>
            <p:cNvPr id="412" name="正方形/長方形 36"/>
            <p:cNvSpPr/>
            <p:nvPr/>
          </p:nvSpPr>
          <p:spPr>
            <a:xfrm>
              <a:off x="709920" y="965160"/>
              <a:ext cx="3395160" cy="1023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AutoShape 15"/>
            <p:cNvSpPr/>
            <p:nvPr/>
          </p:nvSpPr>
          <p:spPr>
            <a:xfrm>
              <a:off x="856440" y="1052640"/>
              <a:ext cx="3116520" cy="80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Story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를 선택하여</a:t>
              </a:r>
              <a:r>
                <a:rPr b="0" lang="ja-JP" sz="20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 </a:t>
              </a:r>
              <a:br>
                <a:rPr sz="2000"/>
              </a:b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작업 진행한다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AutoShape 14"/>
            <p:cNvSpPr/>
            <p:nvPr/>
          </p:nvSpPr>
          <p:spPr>
            <a:xfrm>
              <a:off x="784800" y="2509920"/>
              <a:ext cx="3188520" cy="84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주사위 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개를 던진다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Story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점수를 감한다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>
              <a:off x="784800" y="3897360"/>
              <a:ext cx="3188520" cy="468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bf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hance</a:t>
              </a:r>
              <a:r>
                <a:rPr b="0" lang="ja-JP" sz="20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카드를 뽑는다</a:t>
              </a: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AutoShape 12"/>
            <p:cNvSpPr/>
            <p:nvPr/>
          </p:nvSpPr>
          <p:spPr>
            <a:xfrm>
              <a:off x="784800" y="4964040"/>
              <a:ext cx="3188520" cy="40968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Solution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을 찾는다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922320" y="5877000"/>
              <a:ext cx="3050640" cy="487440"/>
            </a:xfrm>
            <a:prstGeom prst="ellipse">
              <a:avLst/>
            </a:prstGeom>
            <a:gradFill rotWithShape="0">
              <a:gsLst>
                <a:gs pos="0">
                  <a:srgbClr val="ffd6f5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다음 팀원 진행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AutoShape 10"/>
            <p:cNvSpPr/>
            <p:nvPr/>
          </p:nvSpPr>
          <p:spPr>
            <a:xfrm>
              <a:off x="2244240" y="2060640"/>
              <a:ext cx="410040" cy="360360"/>
            </a:xfrm>
            <a:prstGeom prst="downArrow">
              <a:avLst>
                <a:gd name="adj1" fmla="val 50213"/>
                <a:gd name="adj2" fmla="val 70389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 rot="16200000">
              <a:off x="-1981800" y="3432600"/>
              <a:ext cx="4897440" cy="568440"/>
            </a:xfrm>
            <a:custGeom>
              <a:avLst/>
              <a:gdLst>
                <a:gd name="textAreaLeft" fmla="*/ 1161720 w 4897440"/>
                <a:gd name="textAreaRight" fmla="*/ 3604680 w 4897440"/>
                <a:gd name="textAreaTop" fmla="*/ 75960 h 568440"/>
                <a:gd name="textAreaBottom" fmla="*/ 49248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774" y="0"/>
                  </a:lnTo>
                  <a:arcTo wR="10248" hR="21600" stAng="-5400000" swAng="3440538"/>
                  <a:lnTo>
                    <a:pt x="21157" y="15316"/>
                  </a:lnTo>
                  <a:lnTo>
                    <a:pt x="20758" y="21600"/>
                  </a:lnTo>
                  <a:lnTo>
                    <a:pt x="19473" y="15316"/>
                  </a:lnTo>
                  <a:lnTo>
                    <a:pt x="20052" y="15316"/>
                  </a:lnTo>
                  <a:arcTo wR="10248" hR="21600" stAng="-1959462" swAng="-3398669"/>
                  <a:lnTo>
                    <a:pt x="10511" y="7"/>
                  </a:lnTo>
                  <a:arcTo wR="10248" hR="21600" stAng="-5441869" swAng="-5358131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41869"/>
                  <a:lnTo>
                    <a:pt x="10511" y="7"/>
                  </a:lnTo>
                  <a:arcTo wR="10248" hR="21600" stAng="-5441869" swAng="-5358131"/>
                  <a:close/>
                </a:path>
              </a:pathLst>
            </a:cu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AutoShape 4"/>
            <p:cNvSpPr/>
            <p:nvPr/>
          </p:nvSpPr>
          <p:spPr>
            <a:xfrm>
              <a:off x="2244240" y="3500280"/>
              <a:ext cx="410040" cy="360360"/>
            </a:xfrm>
            <a:prstGeom prst="downArrow">
              <a:avLst>
                <a:gd name="adj1" fmla="val 50213"/>
                <a:gd name="adj2" fmla="val 45546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AutoShape 3"/>
            <p:cNvSpPr/>
            <p:nvPr/>
          </p:nvSpPr>
          <p:spPr>
            <a:xfrm>
              <a:off x="2244240" y="4508640"/>
              <a:ext cx="410040" cy="360360"/>
            </a:xfrm>
            <a:prstGeom prst="downArrow">
              <a:avLst>
                <a:gd name="adj1" fmla="val 50213"/>
                <a:gd name="adj2" fmla="val 45546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AutoShape 2"/>
            <p:cNvSpPr/>
            <p:nvPr/>
          </p:nvSpPr>
          <p:spPr>
            <a:xfrm>
              <a:off x="2244240" y="5445000"/>
              <a:ext cx="410040" cy="360360"/>
            </a:xfrm>
            <a:prstGeom prst="downArrow">
              <a:avLst>
                <a:gd name="adj1" fmla="val 50213"/>
                <a:gd name="adj2" fmla="val 45546"/>
              </a:avLst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214880" y="1268280"/>
            <a:ext cx="4752720" cy="5143320"/>
            <a:chOff x="4214880" y="1268280"/>
            <a:chExt cx="4752720" cy="5143320"/>
          </a:xfrm>
        </p:grpSpPr>
        <p:sp>
          <p:nvSpPr>
            <p:cNvPr id="424" name="Rectangle 22"/>
            <p:cNvSpPr/>
            <p:nvPr/>
          </p:nvSpPr>
          <p:spPr>
            <a:xfrm>
              <a:off x="4214880" y="1268280"/>
              <a:ext cx="1583640" cy="458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Rectangle 23"/>
            <p:cNvSpPr/>
            <p:nvPr/>
          </p:nvSpPr>
          <p:spPr>
            <a:xfrm>
              <a:off x="5798520" y="1268280"/>
              <a:ext cx="1585440" cy="458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Rectangle 24"/>
            <p:cNvSpPr/>
            <p:nvPr/>
          </p:nvSpPr>
          <p:spPr>
            <a:xfrm>
              <a:off x="7383960" y="1268280"/>
              <a:ext cx="1583640" cy="458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 Box 25"/>
            <p:cNvSpPr/>
            <p:nvPr/>
          </p:nvSpPr>
          <p:spPr>
            <a:xfrm>
              <a:off x="4214880" y="1268280"/>
              <a:ext cx="1583640" cy="8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oDo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 Box 26"/>
            <p:cNvSpPr/>
            <p:nvPr/>
          </p:nvSpPr>
          <p:spPr>
            <a:xfrm>
              <a:off x="5798520" y="1268280"/>
              <a:ext cx="1585440" cy="8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 Progres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7383960" y="1268280"/>
              <a:ext cx="1583640" cy="8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正方形/長方形 35"/>
            <p:cNvSpPr/>
            <p:nvPr/>
          </p:nvSpPr>
          <p:spPr>
            <a:xfrm>
              <a:off x="4267440" y="2411280"/>
              <a:ext cx="1000440" cy="10713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AutoShape 28"/>
            <p:cNvSpPr/>
            <p:nvPr/>
          </p:nvSpPr>
          <p:spPr>
            <a:xfrm>
              <a:off x="4438800" y="2543040"/>
              <a:ext cx="667800" cy="765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AutoShape 29"/>
            <p:cNvSpPr/>
            <p:nvPr/>
          </p:nvSpPr>
          <p:spPr>
            <a:xfrm>
              <a:off x="4438800" y="3858840"/>
              <a:ext cx="667800" cy="765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テキスト ボックス 37"/>
            <p:cNvSpPr/>
            <p:nvPr/>
          </p:nvSpPr>
          <p:spPr>
            <a:xfrm>
              <a:off x="6286680" y="255420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円/楕円 38"/>
            <p:cNvSpPr/>
            <p:nvPr/>
          </p:nvSpPr>
          <p:spPr>
            <a:xfrm>
              <a:off x="6214680" y="2982600"/>
              <a:ext cx="14328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円/楕円 39"/>
            <p:cNvSpPr/>
            <p:nvPr/>
          </p:nvSpPr>
          <p:spPr>
            <a:xfrm>
              <a:off x="6366960" y="2982600"/>
              <a:ext cx="14328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円/楕円 40"/>
            <p:cNvSpPr/>
            <p:nvPr/>
          </p:nvSpPr>
          <p:spPr>
            <a:xfrm>
              <a:off x="6500520" y="2982600"/>
              <a:ext cx="14328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円/楕円 41"/>
            <p:cNvSpPr/>
            <p:nvPr/>
          </p:nvSpPr>
          <p:spPr>
            <a:xfrm>
              <a:off x="6644160" y="2982600"/>
              <a:ext cx="14184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円/楕円 42"/>
            <p:cNvSpPr/>
            <p:nvPr/>
          </p:nvSpPr>
          <p:spPr>
            <a:xfrm>
              <a:off x="6786000" y="2982600"/>
              <a:ext cx="143640" cy="14292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円/楕円 43"/>
            <p:cNvSpPr/>
            <p:nvPr/>
          </p:nvSpPr>
          <p:spPr>
            <a:xfrm>
              <a:off x="6214680" y="3135240"/>
              <a:ext cx="143280" cy="142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円/楕円 44"/>
            <p:cNvSpPr/>
            <p:nvPr/>
          </p:nvSpPr>
          <p:spPr>
            <a:xfrm>
              <a:off x="6366960" y="3135240"/>
              <a:ext cx="143280" cy="142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円/楕円 45"/>
            <p:cNvSpPr/>
            <p:nvPr/>
          </p:nvSpPr>
          <p:spPr>
            <a:xfrm>
              <a:off x="6500520" y="3135240"/>
              <a:ext cx="143280" cy="142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円/楕円 46"/>
            <p:cNvSpPr/>
            <p:nvPr/>
          </p:nvSpPr>
          <p:spPr>
            <a:xfrm>
              <a:off x="6644160" y="3135240"/>
              <a:ext cx="141840" cy="142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円/楕円 47"/>
            <p:cNvSpPr/>
            <p:nvPr/>
          </p:nvSpPr>
          <p:spPr>
            <a:xfrm>
              <a:off x="6786000" y="3135240"/>
              <a:ext cx="143640" cy="142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角丸四角形 59"/>
            <p:cNvSpPr/>
            <p:nvPr/>
          </p:nvSpPr>
          <p:spPr>
            <a:xfrm>
              <a:off x="5572800" y="548316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円/楕円 60"/>
            <p:cNvSpPr/>
            <p:nvPr/>
          </p:nvSpPr>
          <p:spPr>
            <a:xfrm>
              <a:off x="5715000" y="5625720"/>
              <a:ext cx="215280" cy="21456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円/楕円 61"/>
            <p:cNvSpPr/>
            <p:nvPr/>
          </p:nvSpPr>
          <p:spPr>
            <a:xfrm>
              <a:off x="6144480" y="5625720"/>
              <a:ext cx="213840" cy="21456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円/楕円 62"/>
            <p:cNvSpPr/>
            <p:nvPr/>
          </p:nvSpPr>
          <p:spPr>
            <a:xfrm>
              <a:off x="5715000" y="6054480"/>
              <a:ext cx="21528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円/楕円 63"/>
            <p:cNvSpPr/>
            <p:nvPr/>
          </p:nvSpPr>
          <p:spPr>
            <a:xfrm>
              <a:off x="6144480" y="6054480"/>
              <a:ext cx="21384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角丸四角形 65"/>
            <p:cNvSpPr/>
            <p:nvPr/>
          </p:nvSpPr>
          <p:spPr>
            <a:xfrm>
              <a:off x="6786000" y="548316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円/楕円 66"/>
            <p:cNvSpPr/>
            <p:nvPr/>
          </p:nvSpPr>
          <p:spPr>
            <a:xfrm>
              <a:off x="6929640" y="5625720"/>
              <a:ext cx="213480" cy="21456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円/楕円 67"/>
            <p:cNvSpPr/>
            <p:nvPr/>
          </p:nvSpPr>
          <p:spPr>
            <a:xfrm>
              <a:off x="7143480" y="5840280"/>
              <a:ext cx="21384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2" name="円/楕円 69"/>
            <p:cNvSpPr/>
            <p:nvPr/>
          </p:nvSpPr>
          <p:spPr>
            <a:xfrm>
              <a:off x="7357320" y="6054480"/>
              <a:ext cx="21528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正方形/長方形 71"/>
            <p:cNvSpPr/>
            <p:nvPr/>
          </p:nvSpPr>
          <p:spPr>
            <a:xfrm>
              <a:off x="6144480" y="2911320"/>
              <a:ext cx="857160" cy="21420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正方形/長方形 72"/>
            <p:cNvSpPr/>
            <p:nvPr/>
          </p:nvSpPr>
          <p:spPr>
            <a:xfrm>
              <a:off x="6144480" y="3125520"/>
              <a:ext cx="356040" cy="21420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5" name="正方形/長方形 74"/>
            <p:cNvSpPr/>
            <p:nvPr/>
          </p:nvSpPr>
          <p:spPr>
            <a:xfrm>
              <a:off x="6500520" y="3120840"/>
              <a:ext cx="285120" cy="21420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6" name="AutoShape 28"/>
            <p:cNvSpPr/>
            <p:nvPr/>
          </p:nvSpPr>
          <p:spPr>
            <a:xfrm>
              <a:off x="6715800" y="2482560"/>
              <a:ext cx="784800" cy="285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30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방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AutoShape 28"/>
            <p:cNvSpPr/>
            <p:nvPr/>
          </p:nvSpPr>
          <p:spPr>
            <a:xfrm>
              <a:off x="6715800" y="2196720"/>
              <a:ext cx="784800" cy="285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30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길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角丸四角形 84"/>
            <p:cNvSpPr/>
            <p:nvPr/>
          </p:nvSpPr>
          <p:spPr>
            <a:xfrm>
              <a:off x="5572800" y="548316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円/楕円 85"/>
            <p:cNvSpPr/>
            <p:nvPr/>
          </p:nvSpPr>
          <p:spPr>
            <a:xfrm>
              <a:off x="5715000" y="5625720"/>
              <a:ext cx="215280" cy="21456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円/楕円 88"/>
            <p:cNvSpPr/>
            <p:nvPr/>
          </p:nvSpPr>
          <p:spPr>
            <a:xfrm>
              <a:off x="6144480" y="6054480"/>
              <a:ext cx="213840" cy="214200"/>
            </a:xfrm>
            <a:prstGeom prst="ellipse">
              <a:avLst/>
            </a:prstGeom>
            <a:solidFill>
              <a:srgbClr val="1e1c1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角丸四角形 89"/>
            <p:cNvSpPr/>
            <p:nvPr/>
          </p:nvSpPr>
          <p:spPr>
            <a:xfrm>
              <a:off x="6786000" y="5483160"/>
              <a:ext cx="928800" cy="92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円/楕円 91"/>
            <p:cNvSpPr/>
            <p:nvPr/>
          </p:nvSpPr>
          <p:spPr>
            <a:xfrm>
              <a:off x="7071840" y="5768640"/>
              <a:ext cx="35748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正方形/長方形 93"/>
            <p:cNvSpPr/>
            <p:nvPr/>
          </p:nvSpPr>
          <p:spPr>
            <a:xfrm>
              <a:off x="6786000" y="3125520"/>
              <a:ext cx="215280" cy="21420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5636160" y="3673080"/>
              <a:ext cx="1993680" cy="130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65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ask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665280" y="1197000"/>
            <a:ext cx="7961040" cy="3836880"/>
          </a:xfrm>
          <a:prstGeom prst="rect">
            <a:avLst/>
          </a:prstGeom>
          <a:ln w="0">
            <a:noFill/>
          </a:ln>
        </p:spPr>
      </p:pic>
      <p:sp>
        <p:nvSpPr>
          <p:cNvPr id="467" name="乗算記号 4"/>
          <p:cNvSpPr/>
          <p:nvPr/>
        </p:nvSpPr>
        <p:spPr>
          <a:xfrm>
            <a:off x="2786040" y="1857240"/>
            <a:ext cx="5786640" cy="2071800"/>
          </a:xfrm>
          <a:custGeom>
            <a:avLst/>
            <a:gdLst>
              <a:gd name="textAreaLeft" fmla="*/ 1307520 w 5786640"/>
              <a:gd name="textAreaRight" fmla="*/ 4479120 w 5786640"/>
              <a:gd name="textAreaTop" fmla="*/ 268200 h 2071800"/>
              <a:gd name="textAreaBottom" fmla="*/ 1803600 h 2071800"/>
            </a:gdLst>
            <a:ahLst/>
            <a:rect l="textAreaLeft" t="textAreaTop" r="textAreaRight" b="textAreaBottom"/>
            <a:pathLst>
              <a:path w="5786478" h="2071702">
                <a:moveTo>
                  <a:pt x="1307646" y="726946"/>
                </a:moveTo>
                <a:lnTo>
                  <a:pt x="1471889" y="268197"/>
                </a:lnTo>
                <a:lnTo>
                  <a:pt x="2893239" y="777075"/>
                </a:lnTo>
                <a:lnTo>
                  <a:pt x="4314589" y="268197"/>
                </a:lnTo>
                <a:lnTo>
                  <a:pt x="4478832" y="726946"/>
                </a:lnTo>
                <a:lnTo>
                  <a:pt x="3616027" y="1035851"/>
                </a:lnTo>
                <a:lnTo>
                  <a:pt x="4478832" y="1344756"/>
                </a:lnTo>
                <a:lnTo>
                  <a:pt x="4314589" y="1803505"/>
                </a:lnTo>
                <a:lnTo>
                  <a:pt x="2893239" y="1294627"/>
                </a:lnTo>
                <a:lnTo>
                  <a:pt x="1471889" y="1803505"/>
                </a:lnTo>
                <a:lnTo>
                  <a:pt x="1307646" y="1344756"/>
                </a:lnTo>
                <a:lnTo>
                  <a:pt x="2170451" y="1035851"/>
                </a:lnTo>
                <a:close/>
              </a:path>
            </a:pathLst>
          </a:custGeom>
          <a:solidFill>
            <a:srgbClr val="ff0000">
              <a:alpha val="38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テキスト ボックス 5"/>
          <p:cNvSpPr/>
          <p:nvPr/>
        </p:nvSpPr>
        <p:spPr>
          <a:xfrm>
            <a:off x="214200" y="54356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 번에 하나의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만 적용할 수 있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완료된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부터 남겨진 점수는 버린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上矢印 6"/>
          <p:cNvSpPr/>
          <p:nvPr/>
        </p:nvSpPr>
        <p:spPr>
          <a:xfrm rot="10800000">
            <a:off x="5143320" y="3357360"/>
            <a:ext cx="812520" cy="1285560"/>
          </a:xfrm>
          <a:prstGeom prst="upArrow">
            <a:avLst>
              <a:gd name="adj1" fmla="val 20926"/>
              <a:gd name="adj2" fmla="val 51641"/>
            </a:avLst>
          </a:prstGeom>
          <a:solidFill>
            <a:srgbClr val="79854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ti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드를 만든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ance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에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와 </a:t>
            </a:r>
            <a:r>
              <a:rPr b="0" lang="ko-KR" sz="3200" spc="-1" strike="noStrike">
                <a:solidFill>
                  <a:srgbClr val="254061"/>
                </a:solidFill>
                <a:latin typeface="맑은 고딕"/>
                <a:ea typeface="맑은 고딕"/>
              </a:rPr>
              <a:t>솔루션을 뺀다</a:t>
            </a:r>
            <a:r>
              <a:rPr b="0" lang="ko-KR" sz="3200" spc="-1" strike="noStrike">
                <a:solidFill>
                  <a:srgbClr val="254061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ance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벤트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섞어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뒤집어 놓는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행 기록지와 펜을 준비한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록자를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선정한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973080" y="1415880"/>
            <a:ext cx="7386840" cy="4318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74" name="線吹き出し 1 (枠付き) 5"/>
          <p:cNvSpPr/>
          <p:nvPr/>
        </p:nvSpPr>
        <p:spPr>
          <a:xfrm>
            <a:off x="1647720" y="1916280"/>
            <a:ext cx="1743120" cy="792000"/>
          </a:xfrm>
          <a:prstGeom prst="borderCallout1">
            <a:avLst>
              <a:gd name="adj1" fmla="val 18750"/>
              <a:gd name="adj2" fmla="val -8333"/>
              <a:gd name="adj3" fmla="val 232462"/>
              <a:gd name="adj4" fmla="val 196472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첫 원부터 별표까지 라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線吹き出し 1 (枠付き) 6"/>
          <p:cNvSpPr/>
          <p:nvPr/>
        </p:nvSpPr>
        <p:spPr>
          <a:xfrm>
            <a:off x="1741320" y="4365720"/>
            <a:ext cx="1965600" cy="934920"/>
          </a:xfrm>
          <a:prstGeom prst="borderCallout1">
            <a:avLst>
              <a:gd name="adj1" fmla="val 18750"/>
              <a:gd name="adj2" fmla="val -8333"/>
              <a:gd name="adj3" fmla="val -53481"/>
              <a:gd name="adj4" fmla="val 144111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사위를 던지면 원을 그린다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線吹き出し 1 (枠付き) 7"/>
          <p:cNvSpPr/>
          <p:nvPr/>
        </p:nvSpPr>
        <p:spPr>
          <a:xfrm>
            <a:off x="4359240" y="4365720"/>
            <a:ext cx="2219400" cy="947520"/>
          </a:xfrm>
          <a:prstGeom prst="borderCallout1">
            <a:avLst>
              <a:gd name="adj1" fmla="val 18750"/>
              <a:gd name="adj2" fmla="val -8333"/>
              <a:gd name="adj3" fmla="val -53935"/>
              <a:gd name="adj4" fmla="val 103435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사위를 굴리지 않았으면 원을 그리지 않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線吹き出し 1 (枠付き) 8"/>
          <p:cNvSpPr/>
          <p:nvPr/>
        </p:nvSpPr>
        <p:spPr>
          <a:xfrm>
            <a:off x="7431120" y="4365720"/>
            <a:ext cx="1395360" cy="869760"/>
          </a:xfrm>
          <a:prstGeom prst="borderCallout1">
            <a:avLst>
              <a:gd name="adj1" fmla="val 18750"/>
              <a:gd name="adj2" fmla="val -8333"/>
              <a:gd name="adj3" fmla="val -67337"/>
              <a:gd name="adj4" fmla="val -6199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ory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완료 되면 별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線吹き出し 1 (枠付き) 9"/>
          <p:cNvSpPr/>
          <p:nvPr/>
        </p:nvSpPr>
        <p:spPr>
          <a:xfrm>
            <a:off x="4172040" y="1916280"/>
            <a:ext cx="1530360" cy="644400"/>
          </a:xfrm>
          <a:prstGeom prst="borderCallout1">
            <a:avLst>
              <a:gd name="adj1" fmla="val 18750"/>
              <a:gd name="adj2" fmla="val -8333"/>
              <a:gd name="adj3" fmla="val 197537"/>
              <a:gd name="adj4" fmla="val 195500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의 길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線吹き出し 1 (枠付き) 13"/>
          <p:cNvSpPr/>
          <p:nvPr/>
        </p:nvSpPr>
        <p:spPr>
          <a:xfrm>
            <a:off x="6391440" y="1940040"/>
            <a:ext cx="1539720" cy="649080"/>
          </a:xfrm>
          <a:prstGeom prst="borderCallout1">
            <a:avLst>
              <a:gd name="adj1" fmla="val 18750"/>
              <a:gd name="adj2" fmla="val -8333"/>
              <a:gd name="adj3" fmla="val 203912"/>
              <a:gd name="adj4" fmla="val 104949"/>
            </a:avLst>
          </a:prstGeom>
          <a:gradFill rotWithShape="0">
            <a:gsLst>
              <a:gs pos="0">
                <a:srgbClr val="fcd5b5"/>
              </a:gs>
              <a:gs pos="100000">
                <a:srgbClr val="e46c0a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의 개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gress Record She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1581120" y="5805360"/>
            <a:ext cx="245916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록자를 별도로 선정하는 것이 좋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4505400" y="5805360"/>
            <a:ext cx="19936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이디어를 내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선하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eration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한 계획 수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rati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수행할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체 작업 시간을 계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 멤버의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 근무시간은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으로 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택한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는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o Do”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놓는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간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eration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하여 다시 계획 수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lanning for an iter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1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단계 게임 시작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!!!</a:t>
            </a:r>
            <a:br>
              <a:rPr sz="4400"/>
            </a:br>
            <a:br>
              <a:rPr sz="4400"/>
            </a:b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소요 시간 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: 20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분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タイトル 1"/>
          <p:cNvSpPr/>
          <p:nvPr/>
        </p:nvSpPr>
        <p:spPr>
          <a:xfrm>
            <a:off x="457200" y="2185920"/>
            <a:ext cx="82296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Game 2</a:t>
            </a:r>
            <a:br>
              <a:rPr sz="5400"/>
            </a:b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Staged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1600" y="217440"/>
            <a:ext cx="8215200" cy="1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Contents</a:t>
            </a:r>
            <a:endParaRPr b="0" lang="en-US" sz="32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82280" y="134136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Game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Game1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Game2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Game3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57120" y="1268280"/>
            <a:ext cx="8300880" cy="4286520"/>
            <a:chOff x="357120" y="1268280"/>
            <a:chExt cx="8300880" cy="4286520"/>
          </a:xfrm>
        </p:grpSpPr>
        <p:sp>
          <p:nvSpPr>
            <p:cNvPr id="489" name="Rectangle 18"/>
            <p:cNvSpPr/>
            <p:nvPr/>
          </p:nvSpPr>
          <p:spPr>
            <a:xfrm>
              <a:off x="357120" y="1268280"/>
              <a:ext cx="1660320" cy="42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0" name="Text Box 17"/>
            <p:cNvSpPr/>
            <p:nvPr/>
          </p:nvSpPr>
          <p:spPr>
            <a:xfrm>
              <a:off x="357120" y="1268280"/>
              <a:ext cx="1660320" cy="79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ToDo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AutoShape 16"/>
            <p:cNvSpPr/>
            <p:nvPr/>
          </p:nvSpPr>
          <p:spPr>
            <a:xfrm>
              <a:off x="707400" y="2459160"/>
              <a:ext cx="1053360" cy="7142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707400" y="3689280"/>
              <a:ext cx="1053360" cy="7146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2017440" y="1268280"/>
              <a:ext cx="1660320" cy="42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2017440" y="1268280"/>
              <a:ext cx="1660320" cy="79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Design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3677760" y="1268280"/>
              <a:ext cx="1658880" cy="42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3677760" y="1268280"/>
              <a:ext cx="1658880" cy="79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Develop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Rectangle 10"/>
            <p:cNvSpPr/>
            <p:nvPr/>
          </p:nvSpPr>
          <p:spPr>
            <a:xfrm>
              <a:off x="5337000" y="1268280"/>
              <a:ext cx="1660320" cy="42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Text Box 9"/>
            <p:cNvSpPr/>
            <p:nvPr/>
          </p:nvSpPr>
          <p:spPr>
            <a:xfrm>
              <a:off x="5337000" y="1268280"/>
              <a:ext cx="1660320" cy="79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Test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6997320" y="1268280"/>
              <a:ext cx="1660680" cy="42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7"/>
            <p:cNvSpPr/>
            <p:nvPr/>
          </p:nvSpPr>
          <p:spPr>
            <a:xfrm>
              <a:off x="6997320" y="1268280"/>
              <a:ext cx="1660680" cy="79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맑은 고딕"/>
                  <a:ea typeface="ＭＳ Ｐゴシック"/>
                </a:rPr>
                <a:t>Done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AutoShape 6"/>
            <p:cNvSpPr/>
            <p:nvPr/>
          </p:nvSpPr>
          <p:spPr>
            <a:xfrm>
              <a:off x="2241720" y="2797200"/>
              <a:ext cx="1051920" cy="7142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3934440" y="2459160"/>
              <a:ext cx="1053720" cy="7142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3" name="AutoShape 4"/>
            <p:cNvSpPr/>
            <p:nvPr/>
          </p:nvSpPr>
          <p:spPr>
            <a:xfrm>
              <a:off x="3934440" y="3689280"/>
              <a:ext cx="1053720" cy="7146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4" name="AutoShape 3"/>
            <p:cNvSpPr/>
            <p:nvPr/>
          </p:nvSpPr>
          <p:spPr>
            <a:xfrm>
              <a:off x="5725440" y="2638440"/>
              <a:ext cx="1053360" cy="7142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AutoShape 2"/>
            <p:cNvSpPr/>
            <p:nvPr/>
          </p:nvSpPr>
          <p:spPr>
            <a:xfrm>
              <a:off x="7305120" y="2306520"/>
              <a:ext cx="1053720" cy="7146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AutoShape 2"/>
            <p:cNvSpPr/>
            <p:nvPr/>
          </p:nvSpPr>
          <p:spPr>
            <a:xfrm>
              <a:off x="1324080" y="3191040"/>
              <a:ext cx="1496520" cy="647640"/>
            </a:xfrm>
            <a:custGeom>
              <a:avLst/>
              <a:gdLst>
                <a:gd name="textAreaLeft" fmla="*/ 281160 w 1496520"/>
                <a:gd name="textAreaRight" fmla="*/ 988560 w 149652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AutoShape 3"/>
            <p:cNvSpPr/>
            <p:nvPr/>
          </p:nvSpPr>
          <p:spPr>
            <a:xfrm>
              <a:off x="3093120" y="4114800"/>
              <a:ext cx="1496160" cy="647640"/>
            </a:xfrm>
            <a:custGeom>
              <a:avLst/>
              <a:gdLst>
                <a:gd name="textAreaLeft" fmla="*/ 281160 w 1496160"/>
                <a:gd name="textAreaRight" fmla="*/ 988200 w 149616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4643640" y="4114800"/>
              <a:ext cx="1493280" cy="647640"/>
            </a:xfrm>
            <a:custGeom>
              <a:avLst/>
              <a:gdLst>
                <a:gd name="textAreaLeft" fmla="*/ 280440 w 1493280"/>
                <a:gd name="textAreaRight" fmla="*/ 986400 w 149328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AutoShape 5"/>
            <p:cNvSpPr/>
            <p:nvPr/>
          </p:nvSpPr>
          <p:spPr>
            <a:xfrm>
              <a:off x="6452280" y="3191040"/>
              <a:ext cx="1493280" cy="647640"/>
            </a:xfrm>
            <a:custGeom>
              <a:avLst/>
              <a:gdLst>
                <a:gd name="textAreaLeft" fmla="*/ 280440 w 1493280"/>
                <a:gd name="textAreaRight" fmla="*/ 986400 w 149328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-2376961"/>
                  <a:lnTo>
                    <a:pt x="20874" y="8930"/>
                  </a:lnTo>
                  <a:lnTo>
                    <a:pt x="17280" y="0"/>
                  </a:lnTo>
                  <a:lnTo>
                    <a:pt x="12234" y="8930"/>
                  </a:lnTo>
                  <a:lnTo>
                    <a:pt x="15510" y="8930"/>
                  </a:lnTo>
                  <a:arcTo wR="8118" hR="21600" stAng="3023039" swAng="2209545"/>
                  <a:lnTo>
                    <a:pt x="9162" y="21421"/>
                  </a:lnTo>
                  <a:arcTo wR="8118" hR="21600" stAng="5567417" swAng="5232583"/>
                  <a:close/>
                </a:path>
                <a:path fill="darkenLess" w="21600" h="21600">
                  <a:moveTo>
                    <a:pt x="0" y="0"/>
                  </a:moveTo>
                  <a:arcTo wR="8118" hR="21600" stAng="10800000" swAng="-5400000"/>
                  <a:lnTo>
                    <a:pt x="10206" y="21600"/>
                  </a:lnTo>
                  <a:arcTo wR="8118" hR="21600" stAng="5400000" swAng="167417"/>
                  <a:lnTo>
                    <a:pt x="9162" y="21421"/>
                  </a:lnTo>
                  <a:arcTo wR="8118" hR="21600" stAng="5567417" swAng="5232583"/>
                  <a:close/>
                </a:path>
              </a:pathLst>
            </a:custGeom>
            <a:gradFill rotWithShape="0">
              <a:gsLst>
                <a:gs pos="0">
                  <a:srgbClr val="f9adad"/>
                </a:gs>
                <a:gs pos="100000">
                  <a:srgbClr val="ffa66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0" name="Text Box 6"/>
            <p:cNvSpPr/>
            <p:nvPr/>
          </p:nvSpPr>
          <p:spPr>
            <a:xfrm>
              <a:off x="1314000" y="3897360"/>
              <a:ext cx="1328760" cy="468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Comic Sans MS"/>
                  <a:ea typeface="맑은 고딕"/>
                </a:rPr>
                <a:t>작업시작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7"/>
            <p:cNvSpPr/>
            <p:nvPr/>
          </p:nvSpPr>
          <p:spPr>
            <a:xfrm>
              <a:off x="3160800" y="4869000"/>
              <a:ext cx="2674800" cy="531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맑은 고딕"/>
                  <a:ea typeface="맑은 고딕"/>
                </a:rPr>
                <a:t>개별 스테이지 완료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6299640" y="3933720"/>
              <a:ext cx="1456920" cy="466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Comic Sans MS"/>
                </a:rPr>
                <a:t>작업 완료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3" name="正方形/長方形 47"/>
          <p:cNvSpPr/>
          <p:nvPr/>
        </p:nvSpPr>
        <p:spPr>
          <a:xfrm>
            <a:off x="357120" y="56466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 스테이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esign, development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test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들은 가상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ate Your Task Boar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력을 스테이지에 할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ration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안에는 인력 할당은 변경 불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ration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시작 시에는 인력 재 할당 가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ke Assignme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는 해당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부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부착된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이동 불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54061"/>
                </a:solidFill>
                <a:latin typeface="맑은 고딕"/>
                <a:ea typeface="맑은 고딕"/>
              </a:rPr>
              <a:t>해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를 이용하여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해결 가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해결은 모든 팀원의 합의를 통해 가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blem Cards and Solution Card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재 </a:t>
            </a:r>
            <a:r>
              <a:rPr b="0" lang="ko-KR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의해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지된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해 일을 하고 있다면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작업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변경 가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력 재배치와 조정은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번 가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9"/>
          <p:cNvSpPr/>
          <p:nvPr/>
        </p:nvSpPr>
        <p:spPr>
          <a:xfrm>
            <a:off x="0" y="-18252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itional Ru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2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단계 게임 시작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!!!</a:t>
            </a:r>
            <a:br>
              <a:rPr sz="4400"/>
            </a:br>
            <a:br>
              <a:rPr sz="4400"/>
            </a:b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소요 시간 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: 30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분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タイトル 1"/>
          <p:cNvSpPr/>
          <p:nvPr/>
        </p:nvSpPr>
        <p:spPr>
          <a:xfrm>
            <a:off x="457200" y="2195640"/>
            <a:ext cx="8229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Game 3</a:t>
            </a:r>
            <a:br>
              <a:rPr sz="5400"/>
            </a:br>
            <a:r>
              <a:rPr b="0" lang="en-US" sz="5400" spc="-1" strike="noStrike">
                <a:solidFill>
                  <a:srgbClr val="374420"/>
                </a:solidFill>
                <a:latin typeface="맑은 고딕"/>
                <a:ea typeface="맑은 고딕"/>
              </a:rPr>
              <a:t>WIP and Queue limit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正方形/長方形 47"/>
          <p:cNvSpPr/>
          <p:nvPr/>
        </p:nvSpPr>
        <p:spPr>
          <a:xfrm>
            <a:off x="357120" y="57150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스트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잇으로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imits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명시적으로 표시한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14200" y="1357200"/>
            <a:ext cx="11685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214200" y="1357200"/>
            <a:ext cx="1168560" cy="781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oD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7889760" y="1357200"/>
            <a:ext cx="96840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7889760" y="1357200"/>
            <a:ext cx="968400" cy="781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362240" y="1357200"/>
            <a:ext cx="10713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1362240" y="1873080"/>
            <a:ext cx="107136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2433600" y="1357200"/>
            <a:ext cx="110160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2433600" y="1873080"/>
            <a:ext cx="110160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1362240" y="1357200"/>
            <a:ext cx="217296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535200" y="1357200"/>
            <a:ext cx="10731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3535200" y="1873080"/>
            <a:ext cx="107316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4608360" y="1357200"/>
            <a:ext cx="11019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4608360" y="1873080"/>
            <a:ext cx="110196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3537000" y="1357200"/>
            <a:ext cx="21733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Rectangle 20"/>
          <p:cNvSpPr/>
          <p:nvPr/>
        </p:nvSpPr>
        <p:spPr>
          <a:xfrm>
            <a:off x="5710320" y="1357200"/>
            <a:ext cx="10731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5710320" y="1873080"/>
            <a:ext cx="107316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6783480" y="1357200"/>
            <a:ext cx="110160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6783480" y="1873080"/>
            <a:ext cx="1101600" cy="51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5711760" y="1357200"/>
            <a:ext cx="21733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AutoShape 25"/>
          <p:cNvSpPr/>
          <p:nvPr/>
        </p:nvSpPr>
        <p:spPr>
          <a:xfrm>
            <a:off x="361800" y="2498760"/>
            <a:ext cx="706680" cy="598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61800" y="3208320"/>
            <a:ext cx="706680" cy="598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896080" y="2610000"/>
            <a:ext cx="704880" cy="598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AutoShape 28"/>
          <p:cNvSpPr/>
          <p:nvPr/>
        </p:nvSpPr>
        <p:spPr>
          <a:xfrm>
            <a:off x="988920" y="2978280"/>
            <a:ext cx="905040" cy="555480"/>
          </a:xfrm>
          <a:custGeom>
            <a:avLst/>
            <a:gdLst>
              <a:gd name="textAreaLeft" fmla="*/ 169920 w 905040"/>
              <a:gd name="textAreaRight" fmla="*/ 597600 w 905040"/>
              <a:gd name="textAreaTop" fmla="*/ 74160 h 555480"/>
              <a:gd name="textAreaBottom" fmla="*/ 4813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Text Box 29"/>
          <p:cNvSpPr/>
          <p:nvPr/>
        </p:nvSpPr>
        <p:spPr>
          <a:xfrm>
            <a:off x="766800" y="3533760"/>
            <a:ext cx="1195200" cy="326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작업 시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AutoShape 30"/>
          <p:cNvSpPr/>
          <p:nvPr/>
        </p:nvSpPr>
        <p:spPr>
          <a:xfrm>
            <a:off x="1893960" y="3868560"/>
            <a:ext cx="898560" cy="554040"/>
          </a:xfrm>
          <a:custGeom>
            <a:avLst/>
            <a:gdLst>
              <a:gd name="textAreaLeft" fmla="*/ 168840 w 898560"/>
              <a:gd name="textAreaRight" fmla="*/ 593640 w 8985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31"/>
          <p:cNvSpPr/>
          <p:nvPr/>
        </p:nvSpPr>
        <p:spPr>
          <a:xfrm>
            <a:off x="1554120" y="4638600"/>
            <a:ext cx="1662120" cy="590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 스테이지의 작업 시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AutoShape 32"/>
          <p:cNvSpPr/>
          <p:nvPr/>
        </p:nvSpPr>
        <p:spPr>
          <a:xfrm>
            <a:off x="4232160" y="3868560"/>
            <a:ext cx="903240" cy="554040"/>
          </a:xfrm>
          <a:custGeom>
            <a:avLst/>
            <a:gdLst>
              <a:gd name="textAreaLeft" fmla="*/ 169560 w 903240"/>
              <a:gd name="textAreaRight" fmla="*/ 596520 w 90324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AutoShape 33"/>
          <p:cNvSpPr/>
          <p:nvPr/>
        </p:nvSpPr>
        <p:spPr>
          <a:xfrm>
            <a:off x="6318360" y="3998880"/>
            <a:ext cx="900000" cy="555480"/>
          </a:xfrm>
          <a:custGeom>
            <a:avLst/>
            <a:gdLst>
              <a:gd name="textAreaLeft" fmla="*/ 168840 w 900000"/>
              <a:gd name="textAreaRight" fmla="*/ 594360 w 900000"/>
              <a:gd name="textAreaTop" fmla="*/ 74160 h 555480"/>
              <a:gd name="textAreaBottom" fmla="*/ 4813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Text Box 34"/>
          <p:cNvSpPr/>
          <p:nvPr/>
        </p:nvSpPr>
        <p:spPr>
          <a:xfrm>
            <a:off x="2666880" y="3916440"/>
            <a:ext cx="1675080" cy="592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 스테이지의 작업 완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AutoShape 35"/>
          <p:cNvSpPr/>
          <p:nvPr/>
        </p:nvSpPr>
        <p:spPr>
          <a:xfrm>
            <a:off x="5343480" y="3357720"/>
            <a:ext cx="898560" cy="554040"/>
          </a:xfrm>
          <a:custGeom>
            <a:avLst/>
            <a:gdLst>
              <a:gd name="textAreaLeft" fmla="*/ 168840 w 898560"/>
              <a:gd name="textAreaRight" fmla="*/ 593640 w 8985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AutoShape 36"/>
          <p:cNvSpPr/>
          <p:nvPr/>
        </p:nvSpPr>
        <p:spPr>
          <a:xfrm>
            <a:off x="7508880" y="3092400"/>
            <a:ext cx="901800" cy="550800"/>
          </a:xfrm>
          <a:custGeom>
            <a:avLst/>
            <a:gdLst>
              <a:gd name="textAreaLeft" fmla="*/ 169200 w 901800"/>
              <a:gd name="textAreaRight" fmla="*/ 595800 w 901800"/>
              <a:gd name="textAreaTop" fmla="*/ 73800 h 550800"/>
              <a:gd name="textAreaBottom" fmla="*/ 47700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7297560" y="3730680"/>
            <a:ext cx="1160640" cy="399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작업 완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5619600" y="4071960"/>
            <a:ext cx="1247760" cy="487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ＭＳ 明朝"/>
              </a:rPr>
              <a:t>Queue Lim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6757920" y="3402000"/>
            <a:ext cx="1069920" cy="37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ＭＳ 明朝"/>
              </a:rPr>
              <a:t>WIP Lim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AutoShape 40"/>
          <p:cNvSpPr/>
          <p:nvPr/>
        </p:nvSpPr>
        <p:spPr>
          <a:xfrm>
            <a:off x="361800" y="3957480"/>
            <a:ext cx="706680" cy="598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AutoShape 41"/>
          <p:cNvSpPr/>
          <p:nvPr/>
        </p:nvSpPr>
        <p:spPr>
          <a:xfrm>
            <a:off x="2608200" y="2608200"/>
            <a:ext cx="706680" cy="596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AutoShape 42"/>
          <p:cNvSpPr/>
          <p:nvPr/>
        </p:nvSpPr>
        <p:spPr>
          <a:xfrm>
            <a:off x="4807080" y="2608200"/>
            <a:ext cx="706320" cy="596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AutoShape 43"/>
          <p:cNvSpPr/>
          <p:nvPr/>
        </p:nvSpPr>
        <p:spPr>
          <a:xfrm>
            <a:off x="3711600" y="2608200"/>
            <a:ext cx="706320" cy="596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AutoShape 44"/>
          <p:cNvSpPr/>
          <p:nvPr/>
        </p:nvSpPr>
        <p:spPr>
          <a:xfrm>
            <a:off x="3711600" y="3360600"/>
            <a:ext cx="706320" cy="596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AutoShape 45"/>
          <p:cNvSpPr/>
          <p:nvPr/>
        </p:nvSpPr>
        <p:spPr>
          <a:xfrm>
            <a:off x="6946920" y="2608200"/>
            <a:ext cx="708120" cy="596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AutoShape 46"/>
          <p:cNvSpPr/>
          <p:nvPr/>
        </p:nvSpPr>
        <p:spPr>
          <a:xfrm>
            <a:off x="8055000" y="2494080"/>
            <a:ext cx="708120" cy="598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67" name="AutoShape 47"/>
          <p:cNvCxnSpPr/>
          <p:nvPr/>
        </p:nvCxnSpPr>
        <p:spPr>
          <a:xfrm>
            <a:off x="2716200" y="3357720"/>
            <a:ext cx="1061280" cy="36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sp>
        <p:nvSpPr>
          <p:cNvPr id="568" name="AutoShape 48"/>
          <p:cNvSpPr/>
          <p:nvPr/>
        </p:nvSpPr>
        <p:spPr>
          <a:xfrm>
            <a:off x="3102120" y="3357720"/>
            <a:ext cx="903240" cy="554040"/>
          </a:xfrm>
          <a:custGeom>
            <a:avLst/>
            <a:gdLst>
              <a:gd name="textAreaLeft" fmla="*/ 169560 w 903240"/>
              <a:gd name="textAreaRight" fmla="*/ 596520 w 90324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-2376961"/>
                <a:lnTo>
                  <a:pt x="20874" y="8930"/>
                </a:lnTo>
                <a:lnTo>
                  <a:pt x="17280" y="0"/>
                </a:lnTo>
                <a:lnTo>
                  <a:pt x="12234" y="8930"/>
                </a:lnTo>
                <a:lnTo>
                  <a:pt x="15510" y="8930"/>
                </a:lnTo>
                <a:arcTo wR="8118" hR="21600" stAng="3023039" swAng="2209545"/>
                <a:lnTo>
                  <a:pt x="9162" y="21421"/>
                </a:lnTo>
                <a:arcTo wR="8118" hR="21600" stAng="5567417" swAng="5232583"/>
                <a:close/>
              </a:path>
              <a:path fill="darkenLess" w="21600" h="21600">
                <a:moveTo>
                  <a:pt x="0" y="0"/>
                </a:moveTo>
                <a:arcTo wR="8118" hR="21600" stAng="10800000" swAng="-5400000"/>
                <a:lnTo>
                  <a:pt x="10206" y="21600"/>
                </a:lnTo>
                <a:arcTo wR="8118" hR="21600" stAng="5400000" swAng="167417"/>
                <a:lnTo>
                  <a:pt x="9162" y="21421"/>
                </a:lnTo>
                <a:arcTo wR="8118" hR="21600" stAng="5567417" swAng="5232583"/>
                <a:close/>
              </a:path>
            </a:pathLst>
          </a:custGeom>
          <a:gradFill rotWithShape="0">
            <a:gsLst>
              <a:gs pos="0">
                <a:srgbClr val="f9adad"/>
              </a:gs>
              <a:gs pos="100000">
                <a:srgbClr val="ffa6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69" name="AutoShape 49"/>
          <p:cNvCxnSpPr/>
          <p:nvPr/>
        </p:nvCxnSpPr>
        <p:spPr>
          <a:xfrm>
            <a:off x="1533240" y="3957120"/>
            <a:ext cx="1058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cxnSp>
        <p:nvCxnSpPr>
          <p:cNvPr id="570" name="AutoShape 50"/>
          <p:cNvCxnSpPr/>
          <p:nvPr/>
        </p:nvCxnSpPr>
        <p:spPr>
          <a:xfrm>
            <a:off x="3862080" y="4766760"/>
            <a:ext cx="1058040" cy="39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cxnSp>
        <p:nvCxnSpPr>
          <p:cNvPr id="571" name="AutoShape 51"/>
          <p:cNvCxnSpPr/>
          <p:nvPr/>
        </p:nvCxnSpPr>
        <p:spPr>
          <a:xfrm>
            <a:off x="5059080" y="3956040"/>
            <a:ext cx="106092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cxnSp>
        <p:nvCxnSpPr>
          <p:cNvPr id="572" name="AutoShape 52"/>
          <p:cNvCxnSpPr/>
          <p:nvPr/>
        </p:nvCxnSpPr>
        <p:spPr>
          <a:xfrm>
            <a:off x="6264000" y="3957120"/>
            <a:ext cx="1058040" cy="39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cxnSp>
        <p:nvCxnSpPr>
          <p:cNvPr id="573" name="AutoShape 53"/>
          <p:cNvCxnSpPr/>
          <p:nvPr/>
        </p:nvCxnSpPr>
        <p:spPr>
          <a:xfrm>
            <a:off x="7422840" y="3319560"/>
            <a:ext cx="105804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</a:ln>
        </p:spPr>
      </p:cxnSp>
      <p:sp>
        <p:nvSpPr>
          <p:cNvPr id="574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ate Your Task Boar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더 이상의 카드가 없다면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력 이동이 허락된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ueue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하여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팀은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imit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결정할 수 있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음 스테이지의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ueue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꽉 차 있으면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 스테이지 작업은 진행할 수 없다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P and Queue Limi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구사항 변경의 위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ration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마지막에서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드 상의 각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해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의 주사위를 던진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그것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모두 </a:t>
            </a:r>
            <a:r>
              <a:rPr b="1" lang="ko-KR" sz="2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면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Story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변경되며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oDo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부터 다시 시작된다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0" y="-18252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itional Ru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3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단계 게임 시작 </a:t>
            </a:r>
            <a:r>
              <a:rPr b="0" lang="ko-KR" sz="4400" spc="-1" strike="noStrike">
                <a:solidFill>
                  <a:srgbClr val="215968"/>
                </a:solidFill>
                <a:latin typeface="맑은 고딕"/>
                <a:ea typeface="맑은 고딕"/>
              </a:rPr>
              <a:t>!!!</a:t>
            </a:r>
            <a:br>
              <a:rPr sz="4400"/>
            </a:br>
            <a:br>
              <a:rPr sz="4400"/>
            </a:b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소요 시간 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: 30</a:t>
            </a:r>
            <a:r>
              <a:rPr b="0" lang="ko-KR" sz="4400" spc="-1" strike="noStrike">
                <a:solidFill>
                  <a:srgbClr val="e46c0a"/>
                </a:solidFill>
                <a:latin typeface="맑은 고딕"/>
                <a:ea typeface="맑은 고딕"/>
              </a:rPr>
              <a:t>분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581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업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Kanba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법 학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Team-buildin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더 좋은</a:t>
            </a:r>
            <a:r>
              <a:rPr b="0" lang="ja-JP" sz="24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Kanba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한 실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Please bring back something useful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e Kanban Ga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046240" y="256536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entury Gothic"/>
                <a:ea typeface="돋움"/>
              </a:rPr>
              <a:t>Thank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テキスト ボックス 8"/>
          <p:cNvSpPr/>
          <p:nvPr/>
        </p:nvSpPr>
        <p:spPr>
          <a:xfrm>
            <a:off x="650880" y="126828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 Card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1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テキスト ボックス 9"/>
          <p:cNvSpPr/>
          <p:nvPr/>
        </p:nvSpPr>
        <p:spPr>
          <a:xfrm>
            <a:off x="657360" y="328464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ance! Card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3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olution, Problem, and Eve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テキスト ボックス 11"/>
          <p:cNvSpPr/>
          <p:nvPr/>
        </p:nvSpPr>
        <p:spPr>
          <a:xfrm>
            <a:off x="4970520" y="126828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gress Record Shee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3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テキスト ボックス 12"/>
          <p:cNvSpPr/>
          <p:nvPr/>
        </p:nvSpPr>
        <p:spPr>
          <a:xfrm>
            <a:off x="4970520" y="5143680"/>
            <a:ext cx="32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스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잇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큰 것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작은 것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사위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필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우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21160" y="1654200"/>
            <a:ext cx="2508480" cy="31431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071720" y="4149720"/>
            <a:ext cx="2656800" cy="2087640"/>
            <a:chOff x="1071720" y="4149720"/>
            <a:chExt cx="2656800" cy="208764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1071720" y="4149720"/>
              <a:ext cx="2125080" cy="1380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1336680" y="4495680"/>
              <a:ext cx="2125080" cy="1382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603080" y="4856040"/>
              <a:ext cx="2125440" cy="1381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7728120" y="4941720"/>
            <a:ext cx="1415880" cy="1419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050840" y="1773360"/>
            <a:ext cx="2192400" cy="132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380960" y="1700280"/>
            <a:ext cx="5650200" cy="34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テキスト ボックス 8"/>
          <p:cNvSpPr/>
          <p:nvPr/>
        </p:nvSpPr>
        <p:spPr>
          <a:xfrm>
            <a:off x="716040" y="5877000"/>
            <a:ext cx="1801800" cy="368280"/>
          </a:xfrm>
          <a:prstGeom prst="borderCallout1">
            <a:avLst>
              <a:gd name="adj1" fmla="val 18750"/>
              <a:gd name="adj2" fmla="val -8333"/>
              <a:gd name="adj3" fmla="val -216990"/>
              <a:gd name="adj4" fmla="val 129203"/>
            </a:avLst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 </a:t>
            </a:r>
            <a:r>
              <a:rPr b="0" lang="zh-CN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완료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テキスト ボックス 14"/>
          <p:cNvSpPr/>
          <p:nvPr/>
        </p:nvSpPr>
        <p:spPr>
          <a:xfrm>
            <a:off x="2747880" y="5877000"/>
            <a:ext cx="1357560" cy="368280"/>
          </a:xfrm>
          <a:prstGeom prst="borderCallout1">
            <a:avLst>
              <a:gd name="adj1" fmla="val 18750"/>
              <a:gd name="adj2" fmla="val -8333"/>
              <a:gd name="adj3" fmla="val -222166"/>
              <a:gd name="adj4" fmla="val 107870"/>
            </a:avLst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자인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テキスト ボックス 15"/>
          <p:cNvSpPr/>
          <p:nvPr/>
        </p:nvSpPr>
        <p:spPr>
          <a:xfrm>
            <a:off x="5045040" y="5877000"/>
            <a:ext cx="1130400" cy="368280"/>
          </a:xfrm>
          <a:prstGeom prst="borderCallout1">
            <a:avLst>
              <a:gd name="adj1" fmla="val 18750"/>
              <a:gd name="adj2" fmla="val -8333"/>
              <a:gd name="adj3" fmla="val -221287"/>
              <a:gd name="adj4" fmla="val -19291"/>
            </a:avLst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テキスト ボックス 16"/>
          <p:cNvSpPr/>
          <p:nvPr/>
        </p:nvSpPr>
        <p:spPr>
          <a:xfrm>
            <a:off x="6566040" y="5877000"/>
            <a:ext cx="1357200" cy="368280"/>
          </a:xfrm>
          <a:prstGeom prst="borderCallout1">
            <a:avLst>
              <a:gd name="adj1" fmla="val 18750"/>
              <a:gd name="adj2" fmla="val -8333"/>
              <a:gd name="adj3" fmla="val -220898"/>
              <a:gd name="adj4" fmla="val -61546"/>
            </a:avLst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트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テキスト ボックス 17"/>
          <p:cNvSpPr/>
          <p:nvPr/>
        </p:nvSpPr>
        <p:spPr>
          <a:xfrm>
            <a:off x="6499080" y="1413000"/>
            <a:ext cx="1397160" cy="642600"/>
          </a:xfrm>
          <a:prstGeom prst="borderCallout1">
            <a:avLst>
              <a:gd name="adj1" fmla="val 18750"/>
              <a:gd name="adj2" fmla="val -8333"/>
              <a:gd name="adj3" fmla="val 115564"/>
              <a:gd name="adj4" fmla="val -165995"/>
            </a:avLst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D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우선순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ory Card and Estimated Work Effo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42960" y="1944720"/>
            <a:ext cx="7929720" cy="3429000"/>
            <a:chOff x="642960" y="1944720"/>
            <a:chExt cx="7929720" cy="3429000"/>
          </a:xfrm>
        </p:grpSpPr>
        <p:sp>
          <p:nvSpPr>
            <p:cNvPr id="299" name="正方形/長方形 3"/>
            <p:cNvSpPr/>
            <p:nvPr/>
          </p:nvSpPr>
          <p:spPr>
            <a:xfrm>
              <a:off x="642960" y="1944720"/>
              <a:ext cx="7929720" cy="342900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メモ 4"/>
            <p:cNvSpPr/>
            <p:nvPr/>
          </p:nvSpPr>
          <p:spPr>
            <a:xfrm>
              <a:off x="785160" y="2087640"/>
              <a:ext cx="100044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o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メモ 5"/>
            <p:cNvSpPr/>
            <p:nvPr/>
          </p:nvSpPr>
          <p:spPr>
            <a:xfrm>
              <a:off x="1927800" y="2087640"/>
              <a:ext cx="157248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メモ 6"/>
            <p:cNvSpPr/>
            <p:nvPr/>
          </p:nvSpPr>
          <p:spPr>
            <a:xfrm>
              <a:off x="1927800" y="2587680"/>
              <a:ext cx="78660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メモ 7"/>
            <p:cNvSpPr/>
            <p:nvPr/>
          </p:nvSpPr>
          <p:spPr>
            <a:xfrm>
              <a:off x="2856960" y="2587680"/>
              <a:ext cx="6433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WI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メモ 11"/>
            <p:cNvSpPr/>
            <p:nvPr/>
          </p:nvSpPr>
          <p:spPr>
            <a:xfrm>
              <a:off x="3714480" y="2087640"/>
              <a:ext cx="157212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メモ 12"/>
            <p:cNvSpPr/>
            <p:nvPr/>
          </p:nvSpPr>
          <p:spPr>
            <a:xfrm>
              <a:off x="3714480" y="2587680"/>
              <a:ext cx="78516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メモ 13"/>
            <p:cNvSpPr/>
            <p:nvPr/>
          </p:nvSpPr>
          <p:spPr>
            <a:xfrm>
              <a:off x="4643280" y="2587680"/>
              <a:ext cx="6433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WI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メモ 14"/>
            <p:cNvSpPr/>
            <p:nvPr/>
          </p:nvSpPr>
          <p:spPr>
            <a:xfrm>
              <a:off x="5500800" y="2087640"/>
              <a:ext cx="1570680" cy="35712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メモ 15"/>
            <p:cNvSpPr/>
            <p:nvPr/>
          </p:nvSpPr>
          <p:spPr>
            <a:xfrm>
              <a:off x="5500800" y="2587680"/>
              <a:ext cx="7855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メモ 16"/>
            <p:cNvSpPr/>
            <p:nvPr/>
          </p:nvSpPr>
          <p:spPr>
            <a:xfrm>
              <a:off x="6429960" y="2587680"/>
              <a:ext cx="64152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WI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メモ 17"/>
            <p:cNvSpPr/>
            <p:nvPr/>
          </p:nvSpPr>
          <p:spPr>
            <a:xfrm>
              <a:off x="7287480" y="2087640"/>
              <a:ext cx="999000" cy="500040"/>
            </a:xfrm>
            <a:prstGeom prst="foldedCorner">
              <a:avLst>
                <a:gd name="adj" fmla="val 16666"/>
              </a:avLst>
            </a:prstGeom>
            <a:solidFill>
              <a:srgbClr val="f4ed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n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テキスト ボックス 18"/>
            <p:cNvSpPr/>
            <p:nvPr/>
          </p:nvSpPr>
          <p:spPr>
            <a:xfrm>
              <a:off x="2885040" y="3659040"/>
              <a:ext cx="354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215968"/>
                  </a:solidFill>
                  <a:latin typeface="맑은 고딕"/>
                  <a:ea typeface="맑은 고딕"/>
                </a:rPr>
                <a:t>포스트</a:t>
              </a:r>
              <a:r>
                <a:rPr b="0" lang="en-US" sz="3600" spc="-1" strike="noStrike">
                  <a:solidFill>
                    <a:srgbClr val="215968"/>
                  </a:solidFill>
                  <a:latin typeface="맑은 고딕"/>
                  <a:ea typeface="맑은 고딕"/>
                </a:rPr>
                <a:t>-</a:t>
              </a:r>
              <a:r>
                <a:rPr b="0" lang="zh-CN" sz="3600" spc="-1" strike="noStrike">
                  <a:solidFill>
                    <a:srgbClr val="215968"/>
                  </a:solidFill>
                  <a:latin typeface="맑은 고딕"/>
                  <a:ea typeface="맑은 고딕"/>
                </a:rPr>
                <a:t>잇 사용</a:t>
              </a:r>
              <a:r>
                <a:rPr b="0" lang="en-US" sz="3600" spc="-1" strike="noStrike">
                  <a:solidFill>
                    <a:srgbClr val="215968"/>
                  </a:solidFill>
                  <a:latin typeface="맑은 고딕"/>
                  <a:ea typeface="맑은 고딕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raw your Kanban boar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팀의 상황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를 비주얼하게 보여준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문제나 낭비 요소들을 보여준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뮤니케이션을 향상시킨다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한 변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anba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187280" y="1425600"/>
            <a:ext cx="6642360" cy="4956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imple Task Board(Scrum-ba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グループ化 67"/>
          <p:cNvGrpSpPr/>
          <p:nvPr/>
        </p:nvGrpSpPr>
        <p:grpSpPr>
          <a:xfrm>
            <a:off x="1071720" y="2143080"/>
            <a:ext cx="7345080" cy="3600360"/>
            <a:chOff x="1071720" y="2143080"/>
            <a:chExt cx="7345080" cy="3600360"/>
          </a:xfrm>
        </p:grpSpPr>
        <p:sp>
          <p:nvSpPr>
            <p:cNvPr id="318" name="Rectangle 3"/>
            <p:cNvSpPr/>
            <p:nvPr/>
          </p:nvSpPr>
          <p:spPr>
            <a:xfrm>
              <a:off x="1071720" y="2143080"/>
              <a:ext cx="3024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oDo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4071960" y="2143080"/>
              <a:ext cx="21841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 Progre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6256440" y="2143080"/>
              <a:ext cx="216036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n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1071720" y="2430360"/>
              <a:ext cx="300024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4071960" y="2430360"/>
              <a:ext cx="218412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256440" y="2430360"/>
              <a:ext cx="2160360" cy="33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235728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2214720" y="28573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2857680" y="2714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2928960" y="32144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420372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4203720" y="304308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632772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636264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650736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65172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79608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694044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7085160" y="30384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Rectangle 22"/>
            <p:cNvSpPr/>
            <p:nvPr/>
          </p:nvSpPr>
          <p:spPr>
            <a:xfrm>
              <a:off x="7229520" y="30747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Text Box 23"/>
            <p:cNvSpPr/>
            <p:nvPr/>
          </p:nvSpPr>
          <p:spPr>
            <a:xfrm>
              <a:off x="1219680" y="2546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길동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Text Box 24"/>
            <p:cNvSpPr/>
            <p:nvPr/>
          </p:nvSpPr>
          <p:spPr>
            <a:xfrm>
              <a:off x="1219680" y="2957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방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Line 25"/>
            <p:cNvSpPr/>
            <p:nvPr/>
          </p:nvSpPr>
          <p:spPr>
            <a:xfrm>
              <a:off x="4071960" y="29350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26"/>
            <p:cNvSpPr/>
            <p:nvPr/>
          </p:nvSpPr>
          <p:spPr>
            <a:xfrm>
              <a:off x="1219680" y="34257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향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Line 27"/>
            <p:cNvSpPr/>
            <p:nvPr/>
          </p:nvSpPr>
          <p:spPr>
            <a:xfrm>
              <a:off x="4071960" y="340344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Text Box 28"/>
            <p:cNvSpPr/>
            <p:nvPr/>
          </p:nvSpPr>
          <p:spPr>
            <a:xfrm>
              <a:off x="1219680" y="3894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몽룡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Line 29"/>
            <p:cNvSpPr/>
            <p:nvPr/>
          </p:nvSpPr>
          <p:spPr>
            <a:xfrm>
              <a:off x="4071960" y="3857400"/>
              <a:ext cx="4343400" cy="1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Text Box 30"/>
            <p:cNvSpPr/>
            <p:nvPr/>
          </p:nvSpPr>
          <p:spPr>
            <a:xfrm>
              <a:off x="1219680" y="43624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코난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Line 31"/>
            <p:cNvSpPr/>
            <p:nvPr/>
          </p:nvSpPr>
          <p:spPr>
            <a:xfrm>
              <a:off x="4071960" y="434016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Text Box 32"/>
            <p:cNvSpPr/>
            <p:nvPr/>
          </p:nvSpPr>
          <p:spPr>
            <a:xfrm>
              <a:off x="1219680" y="4830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콩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Line 33"/>
            <p:cNvSpPr/>
            <p:nvPr/>
          </p:nvSpPr>
          <p:spPr>
            <a:xfrm>
              <a:off x="4071960" y="48085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34"/>
            <p:cNvSpPr/>
            <p:nvPr/>
          </p:nvSpPr>
          <p:spPr>
            <a:xfrm>
              <a:off x="1219680" y="5299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팥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Line 35"/>
            <p:cNvSpPr/>
            <p:nvPr/>
          </p:nvSpPr>
          <p:spPr>
            <a:xfrm>
              <a:off x="4071960" y="52768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Line 36"/>
            <p:cNvSpPr/>
            <p:nvPr/>
          </p:nvSpPr>
          <p:spPr>
            <a:xfrm>
              <a:off x="2143080" y="242856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3440160" y="253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Rectangle 38"/>
            <p:cNvSpPr/>
            <p:nvPr/>
          </p:nvSpPr>
          <p:spPr>
            <a:xfrm>
              <a:off x="4746600" y="30780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Rectangle 39"/>
            <p:cNvSpPr/>
            <p:nvPr/>
          </p:nvSpPr>
          <p:spPr>
            <a:xfrm>
              <a:off x="5289480" y="304308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Rectangle 40"/>
            <p:cNvSpPr/>
            <p:nvPr/>
          </p:nvSpPr>
          <p:spPr>
            <a:xfrm>
              <a:off x="5680080" y="30780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Rectangle 41"/>
            <p:cNvSpPr/>
            <p:nvPr/>
          </p:nvSpPr>
          <p:spPr>
            <a:xfrm>
              <a:off x="3500280" y="28573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Rectangle 42"/>
            <p:cNvSpPr/>
            <p:nvPr/>
          </p:nvSpPr>
          <p:spPr>
            <a:xfrm>
              <a:off x="2286000" y="3357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4240080" y="347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Rectangle 44"/>
            <p:cNvSpPr/>
            <p:nvPr/>
          </p:nvSpPr>
          <p:spPr>
            <a:xfrm>
              <a:off x="6364440" y="347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Rectangle 45"/>
            <p:cNvSpPr/>
            <p:nvPr/>
          </p:nvSpPr>
          <p:spPr>
            <a:xfrm>
              <a:off x="3429000" y="3643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Rectangle 46"/>
            <p:cNvSpPr/>
            <p:nvPr/>
          </p:nvSpPr>
          <p:spPr>
            <a:xfrm>
              <a:off x="243036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Rectangle 47"/>
            <p:cNvSpPr/>
            <p:nvPr/>
          </p:nvSpPr>
          <p:spPr>
            <a:xfrm>
              <a:off x="3286080" y="40719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Rectangle 48"/>
            <p:cNvSpPr/>
            <p:nvPr/>
          </p:nvSpPr>
          <p:spPr>
            <a:xfrm>
              <a:off x="427680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Rectangle 49"/>
            <p:cNvSpPr/>
            <p:nvPr/>
          </p:nvSpPr>
          <p:spPr>
            <a:xfrm>
              <a:off x="6400800" y="40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Rectangle 50"/>
            <p:cNvSpPr/>
            <p:nvPr/>
          </p:nvSpPr>
          <p:spPr>
            <a:xfrm>
              <a:off x="3571920" y="47149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Rectangle 51"/>
            <p:cNvSpPr/>
            <p:nvPr/>
          </p:nvSpPr>
          <p:spPr>
            <a:xfrm>
              <a:off x="2286000" y="4786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Rectangle 52"/>
            <p:cNvSpPr/>
            <p:nvPr/>
          </p:nvSpPr>
          <p:spPr>
            <a:xfrm>
              <a:off x="2714760" y="43578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Rectangle 53"/>
            <p:cNvSpPr/>
            <p:nvPr/>
          </p:nvSpPr>
          <p:spPr>
            <a:xfrm>
              <a:off x="4313160" y="444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Rectangle 54"/>
            <p:cNvSpPr/>
            <p:nvPr/>
          </p:nvSpPr>
          <p:spPr>
            <a:xfrm>
              <a:off x="6437520" y="444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Rectangle 55"/>
            <p:cNvSpPr/>
            <p:nvPr/>
          </p:nvSpPr>
          <p:spPr>
            <a:xfrm>
              <a:off x="4276800" y="49118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Rectangle 56"/>
            <p:cNvSpPr/>
            <p:nvPr/>
          </p:nvSpPr>
          <p:spPr>
            <a:xfrm>
              <a:off x="6400800" y="487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Rectangle 57"/>
            <p:cNvSpPr/>
            <p:nvPr/>
          </p:nvSpPr>
          <p:spPr>
            <a:xfrm>
              <a:off x="2357280" y="52149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Rectangle 58"/>
            <p:cNvSpPr/>
            <p:nvPr/>
          </p:nvSpPr>
          <p:spPr>
            <a:xfrm>
              <a:off x="2928960" y="52862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Rectangle 59"/>
            <p:cNvSpPr/>
            <p:nvPr/>
          </p:nvSpPr>
          <p:spPr>
            <a:xfrm>
              <a:off x="4240080" y="534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Rectangle 60"/>
            <p:cNvSpPr/>
            <p:nvPr/>
          </p:nvSpPr>
          <p:spPr>
            <a:xfrm>
              <a:off x="6364440" y="534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Rectangle 61"/>
            <p:cNvSpPr/>
            <p:nvPr/>
          </p:nvSpPr>
          <p:spPr>
            <a:xfrm>
              <a:off x="3530520" y="538020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Rectangle 62"/>
            <p:cNvSpPr/>
            <p:nvPr/>
          </p:nvSpPr>
          <p:spPr>
            <a:xfrm>
              <a:off x="6870600" y="4914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Rectangle 63"/>
            <p:cNvSpPr/>
            <p:nvPr/>
          </p:nvSpPr>
          <p:spPr>
            <a:xfrm>
              <a:off x="7410600" y="4986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Rectangle 64"/>
            <p:cNvSpPr/>
            <p:nvPr/>
          </p:nvSpPr>
          <p:spPr>
            <a:xfrm>
              <a:off x="7912080" y="487836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Rectangle 65"/>
            <p:cNvSpPr/>
            <p:nvPr/>
          </p:nvSpPr>
          <p:spPr>
            <a:xfrm>
              <a:off x="7770960" y="300672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Rectangle 66"/>
            <p:cNvSpPr/>
            <p:nvPr/>
          </p:nvSpPr>
          <p:spPr>
            <a:xfrm>
              <a:off x="6907320" y="3943440"/>
              <a:ext cx="465120" cy="25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1071720" y="29448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Line 27"/>
            <p:cNvSpPr/>
            <p:nvPr/>
          </p:nvSpPr>
          <p:spPr>
            <a:xfrm>
              <a:off x="1071720" y="341316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Line 29"/>
            <p:cNvSpPr/>
            <p:nvPr/>
          </p:nvSpPr>
          <p:spPr>
            <a:xfrm>
              <a:off x="1071720" y="388152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Line 31"/>
            <p:cNvSpPr/>
            <p:nvPr/>
          </p:nvSpPr>
          <p:spPr>
            <a:xfrm>
              <a:off x="1071720" y="434988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Line 33"/>
            <p:cNvSpPr/>
            <p:nvPr/>
          </p:nvSpPr>
          <p:spPr>
            <a:xfrm>
              <a:off x="1071720" y="4818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1071720" y="5286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8" name="四角形吹き出し 75"/>
          <p:cNvSpPr/>
          <p:nvPr/>
        </p:nvSpPr>
        <p:spPr>
          <a:xfrm>
            <a:off x="1380960" y="1128600"/>
            <a:ext cx="2525760" cy="500040"/>
          </a:xfrm>
          <a:prstGeom prst="wedgeRectCallout">
            <a:avLst>
              <a:gd name="adj1" fmla="val 19527"/>
              <a:gd name="adj2" fmla="val 282379"/>
            </a:avLst>
          </a:prstGeom>
          <a:solidFill>
            <a:srgbClr val="ebf1de"/>
          </a:solidFill>
          <a:ln w="381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Do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공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四角形吹き出し 76"/>
          <p:cNvSpPr/>
          <p:nvPr/>
        </p:nvSpPr>
        <p:spPr>
          <a:xfrm>
            <a:off x="2513160" y="5877000"/>
            <a:ext cx="4386240" cy="720720"/>
          </a:xfrm>
          <a:prstGeom prst="wedgeRectCallout">
            <a:avLst>
              <a:gd name="adj1" fmla="val 21300"/>
              <a:gd name="adj2" fmla="val -182819"/>
            </a:avLst>
          </a:prstGeom>
          <a:solidFill>
            <a:srgbClr val="fdeada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누가 어떤 일을 하는지 보여준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四角形吹き出し 77"/>
          <p:cNvSpPr/>
          <p:nvPr/>
        </p:nvSpPr>
        <p:spPr>
          <a:xfrm>
            <a:off x="5103720" y="1058760"/>
            <a:ext cx="2459160" cy="785880"/>
          </a:xfrm>
          <a:prstGeom prst="wedgeRectCallout">
            <a:avLst>
              <a:gd name="adj1" fmla="val -34745"/>
              <a:gd name="adj2" fmla="val 200708"/>
            </a:avLst>
          </a:prstGeom>
          <a:solidFill>
            <a:srgbClr val="ffd2cf"/>
          </a:solidFill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방자는 할 일이 너무 많아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.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722160" y="115920"/>
            <a:ext cx="757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2:37:11Z</dcterms:created>
  <dc:creator>d2</dc:creator>
  <dc:description/>
  <dc:language>en-US</dc:language>
  <cp:lastModifiedBy>d2</cp:lastModifiedBy>
  <dcterms:modified xsi:type="dcterms:W3CDTF">2010-08-10T02:46:30Z</dcterms:modified>
  <cp:revision>5</cp:revision>
  <dc:subject/>
  <dc:title>Kanban Game</dc:title>
</cp:coreProperties>
</file>