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E98B-16D5-4A01-9F68-D04D39E419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6F9-1AEB-4E1F-AF3C-30F4BC478E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818-6412-461B-8067-2EB9A47F64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7AA-059F-4888-B4E4-51B439EE4A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A2D-DE44-4AF3-AAA0-03D87D1AE1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B6D-D5EA-4699-AE86-A95C1D8D2F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889-CEB1-44EC-8D41-40305CDDE5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1207-8489-474A-A5F2-62DBCF7A39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9BE-4A60-49D5-9FF7-098AF88644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E2F-B68A-42E5-B715-BF221FD092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7E5-F9E0-44DC-89AD-AF32271F42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563-01DB-4866-BC9E-8DE36ADE0E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B7C-7EC2-46C5-9878-CE3CA8BD80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136-F562-4CE5-8FBA-DEF28A8587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3F9-98FB-4B67-8030-614C313D15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419-18D7-4A1C-87FD-760A431451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702-2CFE-491F-B461-D03C4FD396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828-22E2-461C-8837-1195172AEB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ED1-D63A-41E6-AA35-72D9AF11D7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C05-6740-41AE-AB9A-15D8D2F334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60DA-8164-4B69-B31F-D1A231080A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A3B-996A-47F1-9C17-7A41FE4356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AFEF-2D1E-45FF-8210-B448B77005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365-D447-4B56-A7F0-5D98F42B21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CEBA-C993-4BCF-B616-2D34EBC69A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80C-11A4-4010-9BD2-18CD034263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5CE-9F16-430D-9C01-021EB1C22A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43D7-4C7E-4611-AF46-5B5D34E22E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771-EA18-46F8-9F97-D03EBD7666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C2B8-56EE-45F2-BB2F-E7064AA9B5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34AA-B009-430D-B7F1-AF3011B618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C1C1-9F51-4228-8764-9CF98F8BDB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6D2-45A6-42E8-B1C0-6A948D2936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BB97-6DEB-42FD-8BFF-9D01FAE1CD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9B0-5F55-4652-8C00-FF71E872DD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A89-62C4-44BE-B0E8-23AA472A08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3105-269F-409A-95E5-D0DF2ABAA6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DA34-A760-4849-B36F-B4B114DD1E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D0B-FB24-4823-B63D-33747A27A2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B1E6-D5DC-43A2-AA15-C1ABFAB7AF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B121-57C4-4C6E-A6C5-D93722C6A9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41E-8EC3-49F5-9D41-C86EFDBE6D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661-65E3-46C7-83D4-9FE5CC6F30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035-F214-44EE-BDE4-34385DFCAB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9AF-8966-4315-8DB0-00A44A7D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BA9-B0CB-43DE-AFA7-7CA25D5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0D2-1072-4589-BF68-001F482E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2D8-F35D-4D18-9927-E6966BAF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9EB-B6D5-4B22-A93B-67535C32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BC9-B15E-4116-A551-2E883947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82C-EB04-4933-9869-0A8D552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24B-E382-4756-9788-F0C19AF9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311-5871-4A16-8A3C-3942BD7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590-4086-4248-8987-F73CD47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56A-D023-4241-96C3-FB8A531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7AC-F4FA-4625-A97B-52641BD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E9E-EB36-47B8-82C0-1C4748BA7E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yattom.j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Calibri"/>
              </a:rPr>
              <a:t>The Kanban Ga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sutomu YASUI aka Ya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gile Developer and C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IWA Syste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正方形/長方形 36"/>
          <p:cNvSpPr/>
          <p:nvPr/>
        </p:nvSpPr>
        <p:spPr>
          <a:xfrm>
            <a:off x="642960" y="142920"/>
            <a:ext cx="3571920" cy="1357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0" y="0"/>
            <a:ext cx="4071960" cy="6818400"/>
            <a:chOff x="0" y="0"/>
            <a:chExt cx="4071960" cy="6818400"/>
          </a:xfrm>
        </p:grpSpPr>
        <p:sp>
          <p:nvSpPr>
            <p:cNvPr id="113" name="AutoShape 16"/>
            <p:cNvSpPr/>
            <p:nvPr/>
          </p:nvSpPr>
          <p:spPr>
            <a:xfrm>
              <a:off x="0" y="0"/>
              <a:ext cx="4071960" cy="68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5"/>
            <p:cNvSpPr/>
            <p:nvPr/>
          </p:nvSpPr>
          <p:spPr>
            <a:xfrm>
              <a:off x="856800" y="277920"/>
              <a:ext cx="3116520" cy="107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Pick a Story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ＭＳ 明朝"/>
                </a:rPr>
                <a:t>you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work on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(if no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4"/>
            <p:cNvSpPr/>
            <p:nvPr/>
          </p:nvSpPr>
          <p:spPr>
            <a:xfrm>
              <a:off x="785880" y="1856880"/>
              <a:ext cx="3187440" cy="84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ＭＳ 明朝"/>
                </a:rPr>
                <a:t>Roll 2 dice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ＭＳ 明朝"/>
                </a:rPr>
                <a:t>deduct from the S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785880" y="3499920"/>
              <a:ext cx="3187440" cy="46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ＭＳ 明朝"/>
                </a:rPr>
                <a:t>Draw a                c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2"/>
            <p:cNvSpPr/>
            <p:nvPr/>
          </p:nvSpPr>
          <p:spPr>
            <a:xfrm>
              <a:off x="785880" y="4822920"/>
              <a:ext cx="3187440" cy="40896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452a"/>
                  </a:solidFill>
                  <a:latin typeface="Verdana"/>
                  <a:ea typeface="ＭＳ 明朝"/>
                </a:rPr>
                <a:t>Try a           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1"/>
            <p:cNvSpPr/>
            <p:nvPr/>
          </p:nvSpPr>
          <p:spPr>
            <a:xfrm>
              <a:off x="922320" y="6088320"/>
              <a:ext cx="3051000" cy="487440"/>
            </a:xfrm>
            <a:prstGeom prst="ellipse">
              <a:avLst/>
            </a:prstGeom>
            <a:gradFill rotWithShape="0">
              <a:gsLst>
                <a:gs pos="0">
                  <a:srgbClr val="ffd6f5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ＭＳ 明朝"/>
                </a:rPr>
                <a:t>Next me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>
              <a:off x="2285640" y="1428840"/>
              <a:ext cx="410040" cy="330120"/>
            </a:xfrm>
            <a:prstGeom prst="downArrow">
              <a:avLst>
                <a:gd name="adj1" fmla="val 50213"/>
                <a:gd name="adj2" fmla="val 70389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 rot="16200000">
              <a:off x="-2486160" y="3171960"/>
              <a:ext cx="5907240" cy="568800"/>
            </a:xfrm>
            <a:custGeom>
              <a:avLst/>
              <a:gdLst>
                <a:gd name="textAreaLeft" fmla="*/ 1401120 w 5907240"/>
                <a:gd name="textAreaRight" fmla="*/ 4347720 w 5907240"/>
                <a:gd name="textAreaTop" fmla="*/ 75960 h 568800"/>
                <a:gd name="textAreaBottom" fmla="*/ 492840 h 56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774" y="0"/>
                  </a:lnTo>
                  <a:arcTo wR="10248" hR="21600" stAng="-5400000" swAng="3440538"/>
                  <a:lnTo>
                    <a:pt x="21157" y="15316"/>
                  </a:lnTo>
                  <a:lnTo>
                    <a:pt x="20758" y="21600"/>
                  </a:lnTo>
                  <a:lnTo>
                    <a:pt x="19473" y="15316"/>
                  </a:lnTo>
                  <a:lnTo>
                    <a:pt x="20052" y="15316"/>
                  </a:lnTo>
                  <a:arcTo wR="10248" hR="21600" stAng="-1959462" swAng="-3398669"/>
                  <a:lnTo>
                    <a:pt x="10511" y="7"/>
                  </a:lnTo>
                  <a:arcTo wR="10248" hR="21600" stAng="-5441869" swAng="-5358131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41869"/>
                  <a:lnTo>
                    <a:pt x="10511" y="7"/>
                  </a:lnTo>
                  <a:arcTo wR="10248" hR="21600" stAng="-5441869" swAng="-5358131"/>
                  <a:close/>
                </a:path>
              </a:pathLst>
            </a:cu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8" descr=""/>
            <p:cNvPicPr/>
            <p:nvPr/>
          </p:nvPicPr>
          <p:blipFill>
            <a:blip r:embed="rId1"/>
            <a:stretch/>
          </p:blipFill>
          <p:spPr>
            <a:xfrm>
              <a:off x="2167200" y="4886640"/>
              <a:ext cx="1182600" cy="31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"/>
            <p:cNvGrpSpPr/>
            <p:nvPr/>
          </p:nvGrpSpPr>
          <p:grpSpPr>
            <a:xfrm>
              <a:off x="1708200" y="3384720"/>
              <a:ext cx="1805040" cy="660600"/>
              <a:chOff x="1708200" y="3384720"/>
              <a:chExt cx="1805040" cy="660600"/>
            </a:xfrm>
          </p:grpSpPr>
          <p:sp>
            <p:nvSpPr>
              <p:cNvPr id="123" name="Rectangle 7"/>
              <p:cNvSpPr/>
              <p:nvPr/>
            </p:nvSpPr>
            <p:spPr>
              <a:xfrm>
                <a:off x="1954080" y="3588120"/>
                <a:ext cx="126180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8200" y="3384720"/>
                <a:ext cx="1805040" cy="66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AutoShape 4"/>
            <p:cNvSpPr/>
            <p:nvPr/>
          </p:nvSpPr>
          <p:spPr>
            <a:xfrm>
              <a:off x="2285640" y="2844720"/>
              <a:ext cx="410040" cy="633960"/>
            </a:xfrm>
            <a:prstGeom prst="downArrow">
              <a:avLst>
                <a:gd name="adj1" fmla="val 50213"/>
                <a:gd name="adj2" fmla="val 70419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2285640" y="4139640"/>
              <a:ext cx="410040" cy="633960"/>
            </a:xfrm>
            <a:prstGeom prst="downArrow">
              <a:avLst>
                <a:gd name="adj1" fmla="val 50213"/>
                <a:gd name="adj2" fmla="val 70419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"/>
            <p:cNvSpPr/>
            <p:nvPr/>
          </p:nvSpPr>
          <p:spPr>
            <a:xfrm>
              <a:off x="2285640" y="5385600"/>
              <a:ext cx="410040" cy="633960"/>
            </a:xfrm>
            <a:prstGeom prst="downArrow">
              <a:avLst>
                <a:gd name="adj1" fmla="val 50213"/>
                <a:gd name="adj2" fmla="val 70419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2"/>
          <p:cNvSpPr/>
          <p:nvPr/>
        </p:nvSpPr>
        <p:spPr>
          <a:xfrm>
            <a:off x="4214880" y="928800"/>
            <a:ext cx="158436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5799240" y="928800"/>
            <a:ext cx="158436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383600" y="928800"/>
            <a:ext cx="158436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4214880" y="928800"/>
            <a:ext cx="1584360" cy="84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5799240" y="928800"/>
            <a:ext cx="1584360" cy="84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7383600" y="928800"/>
            <a:ext cx="1584360" cy="84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35"/>
          <p:cNvSpPr/>
          <p:nvPr/>
        </p:nvSpPr>
        <p:spPr>
          <a:xfrm>
            <a:off x="4267080" y="2071800"/>
            <a:ext cx="1000080" cy="10713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4438800" y="2203560"/>
            <a:ext cx="668160" cy="765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4438800" y="3519360"/>
            <a:ext cx="668160" cy="765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37"/>
          <p:cNvSpPr/>
          <p:nvPr/>
        </p:nvSpPr>
        <p:spPr>
          <a:xfrm>
            <a:off x="6286680" y="22147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グループ化 58"/>
          <p:cNvGrpSpPr/>
          <p:nvPr/>
        </p:nvGrpSpPr>
        <p:grpSpPr>
          <a:xfrm>
            <a:off x="6215040" y="2643120"/>
            <a:ext cx="713880" cy="295200"/>
            <a:chOff x="6215040" y="2643120"/>
            <a:chExt cx="713880" cy="295200"/>
          </a:xfrm>
        </p:grpSpPr>
        <p:sp>
          <p:nvSpPr>
            <p:cNvPr id="139" name="円/楕円 38"/>
            <p:cNvSpPr/>
            <p:nvPr/>
          </p:nvSpPr>
          <p:spPr>
            <a:xfrm>
              <a:off x="6215040" y="264312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円/楕円 39"/>
            <p:cNvSpPr/>
            <p:nvPr/>
          </p:nvSpPr>
          <p:spPr>
            <a:xfrm>
              <a:off x="6367320" y="264312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円/楕円 40"/>
            <p:cNvSpPr/>
            <p:nvPr/>
          </p:nvSpPr>
          <p:spPr>
            <a:xfrm>
              <a:off x="6500520" y="264312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円/楕円 41"/>
            <p:cNvSpPr/>
            <p:nvPr/>
          </p:nvSpPr>
          <p:spPr>
            <a:xfrm>
              <a:off x="6643440" y="2643120"/>
              <a:ext cx="14292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円/楕円 42"/>
            <p:cNvSpPr/>
            <p:nvPr/>
          </p:nvSpPr>
          <p:spPr>
            <a:xfrm>
              <a:off x="6786360" y="264312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円/楕円 43"/>
            <p:cNvSpPr/>
            <p:nvPr/>
          </p:nvSpPr>
          <p:spPr>
            <a:xfrm>
              <a:off x="6215040" y="279540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円/楕円 44"/>
            <p:cNvSpPr/>
            <p:nvPr/>
          </p:nvSpPr>
          <p:spPr>
            <a:xfrm>
              <a:off x="6367320" y="279540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円/楕円 45"/>
            <p:cNvSpPr/>
            <p:nvPr/>
          </p:nvSpPr>
          <p:spPr>
            <a:xfrm>
              <a:off x="6500520" y="279540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円/楕円 46"/>
            <p:cNvSpPr/>
            <p:nvPr/>
          </p:nvSpPr>
          <p:spPr>
            <a:xfrm>
              <a:off x="6643440" y="2795400"/>
              <a:ext cx="14292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円/楕円 47"/>
            <p:cNvSpPr/>
            <p:nvPr/>
          </p:nvSpPr>
          <p:spPr>
            <a:xfrm>
              <a:off x="6786360" y="2795400"/>
              <a:ext cx="14256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3" descr=""/>
          <p:cNvPicPr/>
          <p:nvPr/>
        </p:nvPicPr>
        <p:blipFill>
          <a:blip r:embed="rId3"/>
          <a:stretch/>
        </p:blipFill>
        <p:spPr>
          <a:xfrm>
            <a:off x="5500800" y="3286080"/>
            <a:ext cx="2500200" cy="15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0" name="グループ化 70"/>
          <p:cNvGrpSpPr/>
          <p:nvPr/>
        </p:nvGrpSpPr>
        <p:grpSpPr>
          <a:xfrm>
            <a:off x="5572080" y="5143680"/>
            <a:ext cx="2143080" cy="928440"/>
            <a:chOff x="5572080" y="5143680"/>
            <a:chExt cx="2143080" cy="928440"/>
          </a:xfrm>
        </p:grpSpPr>
        <p:sp>
          <p:nvSpPr>
            <p:cNvPr id="151" name="角丸四角形 59"/>
            <p:cNvSpPr/>
            <p:nvPr/>
          </p:nvSpPr>
          <p:spPr>
            <a:xfrm>
              <a:off x="5572080" y="514368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円/楕円 60"/>
            <p:cNvSpPr/>
            <p:nvPr/>
          </p:nvSpPr>
          <p:spPr>
            <a:xfrm>
              <a:off x="5714640" y="528624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円/楕円 61"/>
            <p:cNvSpPr/>
            <p:nvPr/>
          </p:nvSpPr>
          <p:spPr>
            <a:xfrm>
              <a:off x="6143400" y="528624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円/楕円 62"/>
            <p:cNvSpPr/>
            <p:nvPr/>
          </p:nvSpPr>
          <p:spPr>
            <a:xfrm>
              <a:off x="5714640" y="571500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円/楕円 63"/>
            <p:cNvSpPr/>
            <p:nvPr/>
          </p:nvSpPr>
          <p:spPr>
            <a:xfrm>
              <a:off x="6143400" y="571500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角丸四角形 65"/>
            <p:cNvSpPr/>
            <p:nvPr/>
          </p:nvSpPr>
          <p:spPr>
            <a:xfrm>
              <a:off x="6786360" y="514368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円/楕円 66"/>
            <p:cNvSpPr/>
            <p:nvPr/>
          </p:nvSpPr>
          <p:spPr>
            <a:xfrm>
              <a:off x="6929280" y="528624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円/楕円 67"/>
            <p:cNvSpPr/>
            <p:nvPr/>
          </p:nvSpPr>
          <p:spPr>
            <a:xfrm>
              <a:off x="7143840" y="550080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円/楕円 69"/>
            <p:cNvSpPr/>
            <p:nvPr/>
          </p:nvSpPr>
          <p:spPr>
            <a:xfrm>
              <a:off x="7358040" y="571500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正方形/長方形 71"/>
          <p:cNvSpPr/>
          <p:nvPr/>
        </p:nvSpPr>
        <p:spPr>
          <a:xfrm>
            <a:off x="6143760" y="2571840"/>
            <a:ext cx="857160" cy="21420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正方形/長方形 72"/>
          <p:cNvSpPr/>
          <p:nvPr/>
        </p:nvSpPr>
        <p:spPr>
          <a:xfrm>
            <a:off x="6143760" y="2786040"/>
            <a:ext cx="357120" cy="21420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74"/>
          <p:cNvSpPr/>
          <p:nvPr/>
        </p:nvSpPr>
        <p:spPr>
          <a:xfrm>
            <a:off x="6500880" y="2786040"/>
            <a:ext cx="285840" cy="21420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>
            <a:off x="6715080" y="2143080"/>
            <a:ext cx="785880" cy="28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3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6715080" y="1857240"/>
            <a:ext cx="785880" cy="28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3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グループ化 83"/>
          <p:cNvGrpSpPr/>
          <p:nvPr/>
        </p:nvGrpSpPr>
        <p:grpSpPr>
          <a:xfrm>
            <a:off x="5572080" y="5143680"/>
            <a:ext cx="2143080" cy="928440"/>
            <a:chOff x="5572080" y="5143680"/>
            <a:chExt cx="2143080" cy="928440"/>
          </a:xfrm>
        </p:grpSpPr>
        <p:sp>
          <p:nvSpPr>
            <p:cNvPr id="166" name="角丸四角形 84"/>
            <p:cNvSpPr/>
            <p:nvPr/>
          </p:nvSpPr>
          <p:spPr>
            <a:xfrm>
              <a:off x="5572080" y="514368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円/楕円 85"/>
            <p:cNvSpPr/>
            <p:nvPr/>
          </p:nvSpPr>
          <p:spPr>
            <a:xfrm>
              <a:off x="5714640" y="528624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円/楕円 88"/>
            <p:cNvSpPr/>
            <p:nvPr/>
          </p:nvSpPr>
          <p:spPr>
            <a:xfrm>
              <a:off x="6143400" y="5715000"/>
              <a:ext cx="21420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角丸四角形 89"/>
            <p:cNvSpPr/>
            <p:nvPr/>
          </p:nvSpPr>
          <p:spPr>
            <a:xfrm>
              <a:off x="6786360" y="514368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円/楕円 91"/>
            <p:cNvSpPr/>
            <p:nvPr/>
          </p:nvSpPr>
          <p:spPr>
            <a:xfrm>
              <a:off x="7072200" y="5429160"/>
              <a:ext cx="3571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正方形/長方形 93"/>
          <p:cNvSpPr/>
          <p:nvPr/>
        </p:nvSpPr>
        <p:spPr>
          <a:xfrm>
            <a:off x="6786720" y="2786040"/>
            <a:ext cx="214200" cy="21420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0.19914 -2.59259E-006 E">
                                      <p:cBhvr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19862 -3.33333E-006 E">
                                      <p:cBhvr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5E-006 0.22291 E">
                                      <p:cBhvr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22276 L 5E-006 0.42193 E">
                                      <p:cBhvr>
                                        <p:cTn id="7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42193 L -0.0019 0.81032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 0.81032 L -0.11858 0.59126 C -0.14532 0.54499 -0.15938 0.47629 -0.15938 0.40458 C -0.15938 0.32269 -0.14532 0.25746 -0.11858 0.21143 L -0.0019 -0.00763 E">
                                      <p:cBhvr>
                                        <p:cTn id="10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5E-006 0.21226 E">
                                      <p:cBhvr>
                                        <p:cTn id="11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4 -2.59259E-006 L 0.36459 -2.59259E-006 E">
                                      <p:cBhvr>
                                        <p:cTn id="12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862 0.00301 L 0.36407 0.00301 E">
                                      <p:cBhvr>
                                        <p:cTn id="12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1559 -3.33333E-006 E">
                                      <p:cBhvr>
                                        <p:cTn id="14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1559 3.33333E-006 E">
                                      <p:cBhvr>
                                        <p:cTn id="14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33200" y="0"/>
            <a:ext cx="9010800" cy="4343400"/>
          </a:xfrm>
          <a:prstGeom prst="rect">
            <a:avLst/>
          </a:prstGeom>
          <a:ln w="0">
            <a:noFill/>
          </a:ln>
        </p:spPr>
      </p:pic>
      <p:sp>
        <p:nvSpPr>
          <p:cNvPr id="175" name="乗算記号 4"/>
          <p:cNvSpPr/>
          <p:nvPr/>
        </p:nvSpPr>
        <p:spPr>
          <a:xfrm>
            <a:off x="2786040" y="1857240"/>
            <a:ext cx="5786640" cy="2071800"/>
          </a:xfrm>
          <a:custGeom>
            <a:avLst/>
            <a:gdLst>
              <a:gd name="textAreaLeft" fmla="*/ 1307520 w 5786640"/>
              <a:gd name="textAreaRight" fmla="*/ 4479120 w 5786640"/>
              <a:gd name="textAreaTop" fmla="*/ 268200 h 2071800"/>
              <a:gd name="textAreaBottom" fmla="*/ 1803600 h 2071800"/>
            </a:gdLst>
            <a:ahLst/>
            <a:rect l="textAreaLeft" t="textAreaTop" r="textAreaRight" b="textAreaBottom"/>
            <a:pathLst>
              <a:path w="5786478" h="2071702">
                <a:moveTo>
                  <a:pt x="1307646" y="726946"/>
                </a:moveTo>
                <a:lnTo>
                  <a:pt x="1471889" y="268197"/>
                </a:lnTo>
                <a:lnTo>
                  <a:pt x="2893239" y="777075"/>
                </a:lnTo>
                <a:lnTo>
                  <a:pt x="4314589" y="268197"/>
                </a:lnTo>
                <a:lnTo>
                  <a:pt x="4478832" y="726946"/>
                </a:lnTo>
                <a:lnTo>
                  <a:pt x="3616027" y="1035851"/>
                </a:lnTo>
                <a:lnTo>
                  <a:pt x="4478832" y="1344756"/>
                </a:lnTo>
                <a:lnTo>
                  <a:pt x="4314589" y="1803505"/>
                </a:lnTo>
                <a:lnTo>
                  <a:pt x="2893239" y="1294627"/>
                </a:lnTo>
                <a:lnTo>
                  <a:pt x="1471889" y="1803505"/>
                </a:lnTo>
                <a:lnTo>
                  <a:pt x="1307646" y="1344756"/>
                </a:lnTo>
                <a:lnTo>
                  <a:pt x="2170451" y="1035851"/>
                </a:lnTo>
                <a:close/>
              </a:path>
            </a:pathLst>
          </a:custGeom>
          <a:solidFill>
            <a:srgbClr val="ff0000">
              <a:alpha val="38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5"/>
          <p:cNvSpPr/>
          <p:nvPr/>
        </p:nvSpPr>
        <p:spPr>
          <a:xfrm>
            <a:off x="214200" y="464328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You can only work on one card in a turn (a d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ftovers from your finished Story are disca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上矢印 6"/>
          <p:cNvSpPr/>
          <p:nvPr/>
        </p:nvSpPr>
        <p:spPr>
          <a:xfrm rot="10800000">
            <a:off x="5143320" y="3357360"/>
            <a:ext cx="812520" cy="1285560"/>
          </a:xfrm>
          <a:prstGeom prst="upArrow">
            <a:avLst>
              <a:gd name="adj1" fmla="val 20926"/>
              <a:gd name="adj2" fmla="val 516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your Kanban board on the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ble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olu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Chance! 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ffle Chance! Cards and stack face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Progress Record Sheet and pens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recommend someone to record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Record Sh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rcRect l="0" t="0" r="0" b="52645"/>
          <a:stretch/>
        </p:blipFill>
        <p:spPr>
          <a:xfrm>
            <a:off x="642960" y="1357200"/>
            <a:ext cx="8001000" cy="3238560"/>
          </a:xfrm>
          <a:prstGeom prst="rect">
            <a:avLst/>
          </a:prstGeom>
          <a:ln cap="sq" w="9360">
            <a:solidFill>
              <a:srgbClr val="e6b9b8"/>
            </a:solidFill>
            <a:miter/>
          </a:ln>
        </p:spPr>
      </p:pic>
      <p:sp>
        <p:nvSpPr>
          <p:cNvPr id="183" name="線吹き出し 1 (枠付き) 5"/>
          <p:cNvSpPr/>
          <p:nvPr/>
        </p:nvSpPr>
        <p:spPr>
          <a:xfrm>
            <a:off x="2714760" y="1214280"/>
            <a:ext cx="2143080" cy="1071720"/>
          </a:xfrm>
          <a:prstGeom prst="borderCallout1">
            <a:avLst>
              <a:gd name="adj1" fmla="val 18750"/>
              <a:gd name="adj2" fmla="val -8333"/>
              <a:gd name="adj3" fmla="val 178162"/>
              <a:gd name="adj4" fmla="val 130777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Draw line from the first circle to the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線吹き出し 1 (枠付き) 6"/>
          <p:cNvSpPr/>
          <p:nvPr/>
        </p:nvSpPr>
        <p:spPr>
          <a:xfrm>
            <a:off x="1857240" y="4071960"/>
            <a:ext cx="1500480" cy="857160"/>
          </a:xfrm>
          <a:prstGeom prst="borderCallout1">
            <a:avLst>
              <a:gd name="adj1" fmla="val 18750"/>
              <a:gd name="adj2" fmla="val -8333"/>
              <a:gd name="adj3" fmla="val -95629"/>
              <a:gd name="adj4" fmla="val 120430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Draw a circle when someone rolled 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線吹き出し 1 (枠付き) 7"/>
          <p:cNvSpPr/>
          <p:nvPr/>
        </p:nvSpPr>
        <p:spPr>
          <a:xfrm>
            <a:off x="3643200" y="4357800"/>
            <a:ext cx="1285920" cy="857160"/>
          </a:xfrm>
          <a:prstGeom prst="borderCallout1">
            <a:avLst>
              <a:gd name="adj1" fmla="val 18750"/>
              <a:gd name="adj2" fmla="val -8333"/>
              <a:gd name="adj3" fmla="val -141662"/>
              <a:gd name="adj4" fmla="val 29953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No circles when no one rolled 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線吹き出し 1 (枠付き) 8"/>
          <p:cNvSpPr/>
          <p:nvPr/>
        </p:nvSpPr>
        <p:spPr>
          <a:xfrm>
            <a:off x="5500800" y="4214880"/>
            <a:ext cx="1500120" cy="1071360"/>
          </a:xfrm>
          <a:prstGeom prst="borderCallout1">
            <a:avLst>
              <a:gd name="adj1" fmla="val 18750"/>
              <a:gd name="adj2" fmla="val -8333"/>
              <a:gd name="adj3" fmla="val -92328"/>
              <a:gd name="adj4" fmla="val 46148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Mark when the story finished (Done) with a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線吹き出し 1 (枠付き) 9"/>
          <p:cNvSpPr/>
          <p:nvPr/>
        </p:nvSpPr>
        <p:spPr>
          <a:xfrm>
            <a:off x="7500960" y="4143240"/>
            <a:ext cx="1214280" cy="1071720"/>
          </a:xfrm>
          <a:prstGeom prst="borderCallout1">
            <a:avLst>
              <a:gd name="adj1" fmla="val 18750"/>
              <a:gd name="adj2" fmla="val -8333"/>
              <a:gd name="adj3" fmla="val -75092"/>
              <a:gd name="adj4" fmla="val -10347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Count the length of the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線吹き出し 1 (枠付き) 11"/>
          <p:cNvSpPr/>
          <p:nvPr/>
        </p:nvSpPr>
        <p:spPr>
          <a:xfrm>
            <a:off x="5143680" y="5429160"/>
            <a:ext cx="1714320" cy="642960"/>
          </a:xfrm>
          <a:prstGeom prst="borderCallout1">
            <a:avLst>
              <a:gd name="adj1" fmla="val 18750"/>
              <a:gd name="adj2" fmla="val -8333"/>
              <a:gd name="adj3" fmla="val -5143"/>
              <a:gd name="adj4" fmla="val 77847"/>
            </a:avLst>
          </a:prstGeom>
          <a:gradFill rotWithShape="0">
            <a:gsLst>
              <a:gs pos="0">
                <a:srgbClr val="ff0000"/>
              </a:gs>
              <a:gs pos="50000">
                <a:srgbClr val="d99694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Put your ideas and improv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線吹き出し 1 (枠付き) 12"/>
          <p:cNvSpPr/>
          <p:nvPr/>
        </p:nvSpPr>
        <p:spPr>
          <a:xfrm>
            <a:off x="2357280" y="5429160"/>
            <a:ext cx="2571840" cy="642960"/>
          </a:xfrm>
          <a:prstGeom prst="borderCallout1">
            <a:avLst>
              <a:gd name="adj1" fmla="val 18750"/>
              <a:gd name="adj2" fmla="val -8333"/>
              <a:gd name="adj3" fmla="val -5143"/>
              <a:gd name="adj4" fmla="val 77847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It is better to assign someone for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線吹き出し 1 (枠付き) 13"/>
          <p:cNvSpPr/>
          <p:nvPr/>
        </p:nvSpPr>
        <p:spPr>
          <a:xfrm>
            <a:off x="7500960" y="1214280"/>
            <a:ext cx="1428840" cy="1071720"/>
          </a:xfrm>
          <a:prstGeom prst="borderCallout1">
            <a:avLst>
              <a:gd name="adj1" fmla="val 18750"/>
              <a:gd name="adj2" fmla="val -8333"/>
              <a:gd name="adj3" fmla="val 178361"/>
              <a:gd name="adj4" fmla="val 15444"/>
            </a:avLst>
          </a:prstGeom>
          <a:gradFill rotWithShape="0">
            <a:gsLst>
              <a:gs pos="0">
                <a:srgbClr val="fcd5b5">
                  <a:alpha val="51372"/>
                </a:srgbClr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Count the number of cir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ning for an it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 for 3-days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Stories you work on in the 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d Work Effort is in hour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mber works 8 hours a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selected Story Cards on the “To Do”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 again in each 3-days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雲形吹き出し 3"/>
          <p:cNvSpPr/>
          <p:nvPr/>
        </p:nvSpPr>
        <p:spPr>
          <a:xfrm>
            <a:off x="4357800" y="4786200"/>
            <a:ext cx="4214880" cy="1714680"/>
          </a:xfrm>
          <a:prstGeom prst="cloudCallout">
            <a:avLst>
              <a:gd name="adj1" fmla="val -22009"/>
              <a:gd name="adj2" fmla="val -143921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handout says otherwise, but it’s HOU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072120" cy="3668760"/>
          </a:xfrm>
          <a:prstGeom prst="rect">
            <a:avLst/>
          </a:prstGeom>
          <a:ln w="25560">
            <a:solidFill>
              <a:srgbClr val="404040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ry Card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imated Work Ef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テキスト ボックス 8"/>
          <p:cNvSpPr/>
          <p:nvPr/>
        </p:nvSpPr>
        <p:spPr>
          <a:xfrm>
            <a:off x="428760" y="5500800"/>
            <a:ext cx="2000160" cy="916920"/>
          </a:xfrm>
          <a:prstGeom prst="borderCallout1">
            <a:avLst>
              <a:gd name="adj1" fmla="val 18750"/>
              <a:gd name="adj2" fmla="val -8333"/>
              <a:gd name="adj3" fmla="val 1370"/>
              <a:gd name="adj4" fmla="val 58412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14"/>
          <p:cNvSpPr/>
          <p:nvPr/>
        </p:nvSpPr>
        <p:spPr>
          <a:xfrm>
            <a:off x="2786040" y="5500800"/>
            <a:ext cx="1357200" cy="1191240"/>
          </a:xfrm>
          <a:prstGeom prst="borderCallout1">
            <a:avLst>
              <a:gd name="adj1" fmla="val 18750"/>
              <a:gd name="adj2" fmla="val -8333"/>
              <a:gd name="adj3" fmla="val 1328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15"/>
          <p:cNvSpPr/>
          <p:nvPr/>
        </p:nvSpPr>
        <p:spPr>
          <a:xfrm>
            <a:off x="4286160" y="5500800"/>
            <a:ext cx="1857600" cy="916920"/>
          </a:xfrm>
          <a:prstGeom prst="borderCallout1">
            <a:avLst>
              <a:gd name="adj1" fmla="val 18750"/>
              <a:gd name="adj2" fmla="val -8333"/>
              <a:gd name="adj3" fmla="val 1370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6"/>
          <p:cNvSpPr/>
          <p:nvPr/>
        </p:nvSpPr>
        <p:spPr>
          <a:xfrm>
            <a:off x="6286680" y="5429160"/>
            <a:ext cx="1357200" cy="916920"/>
          </a:xfrm>
          <a:prstGeom prst="borderCallout1">
            <a:avLst>
              <a:gd name="adj1" fmla="val 18750"/>
              <a:gd name="adj2" fmla="val -8333"/>
              <a:gd name="adj3" fmla="val 1333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7"/>
          <p:cNvSpPr/>
          <p:nvPr/>
        </p:nvSpPr>
        <p:spPr>
          <a:xfrm>
            <a:off x="6786720" y="2143080"/>
            <a:ext cx="2000160" cy="368280"/>
          </a:xfrm>
          <a:prstGeom prst="borderCallout1">
            <a:avLst>
              <a:gd name="adj1" fmla="val 18750"/>
              <a:gd name="adj2" fmla="val -8333"/>
              <a:gd name="adj3" fmla="val 46972"/>
              <a:gd name="adj4" fmla="val 250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ID &amp;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Set off when you’re ready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is Game1 is for 20 m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anb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nb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Visualization (o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MIERUK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)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team’s progress an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Kanban show problems or was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Enhance 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Many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四角形吹き出し 52"/>
          <p:cNvSpPr/>
          <p:nvPr/>
        </p:nvSpPr>
        <p:spPr>
          <a:xfrm>
            <a:off x="785880" y="5214960"/>
            <a:ext cx="7572240" cy="500040"/>
          </a:xfrm>
          <a:prstGeom prst="wedgeRectCallout">
            <a:avLst>
              <a:gd name="adj1" fmla="val 9291"/>
              <a:gd name="adj2" fmla="val 4356"/>
            </a:avLst>
          </a:prstGeom>
          <a:solidFill>
            <a:srgbClr val="ebf1de"/>
          </a:solidFill>
          <a:ln w="381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Task Board (also called Scrum-b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anban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A collaborative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Learn how to use Kan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Team-building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icrosoft Sans Serif"/>
              </a:rPr>
              <a:t>Experiment for better Kan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een Light"/>
                <a:ea typeface="Microsoft Sans Serif"/>
              </a:rPr>
              <a:t>Please bring back something usefu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グループ化 67"/>
          <p:cNvGrpSpPr/>
          <p:nvPr/>
        </p:nvGrpSpPr>
        <p:grpSpPr>
          <a:xfrm>
            <a:off x="1071720" y="2143080"/>
            <a:ext cx="7345080" cy="3600360"/>
            <a:chOff x="1071720" y="2143080"/>
            <a:chExt cx="7345080" cy="3600360"/>
          </a:xfrm>
        </p:grpSpPr>
        <p:sp>
          <p:nvSpPr>
            <p:cNvPr id="213" name="Rectangle 3"/>
            <p:cNvSpPr/>
            <p:nvPr/>
          </p:nvSpPr>
          <p:spPr>
            <a:xfrm>
              <a:off x="1071720" y="2143080"/>
              <a:ext cx="3024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4071960" y="2143080"/>
              <a:ext cx="21841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 Pro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6256440" y="2143080"/>
              <a:ext cx="216036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071720" y="2430360"/>
              <a:ext cx="300024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4071960" y="2430360"/>
              <a:ext cx="218412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6256440" y="2430360"/>
              <a:ext cx="216036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235728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2214720" y="28573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1"/>
            <p:cNvSpPr/>
            <p:nvPr/>
          </p:nvSpPr>
          <p:spPr>
            <a:xfrm>
              <a:off x="2857680" y="2714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2928960" y="32144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420372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"/>
            <p:cNvSpPr/>
            <p:nvPr/>
          </p:nvSpPr>
          <p:spPr>
            <a:xfrm>
              <a:off x="4203720" y="304308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32772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636264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650736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8"/>
            <p:cNvSpPr/>
            <p:nvPr/>
          </p:nvSpPr>
          <p:spPr>
            <a:xfrm>
              <a:off x="665172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679608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"/>
            <p:cNvSpPr/>
            <p:nvPr/>
          </p:nvSpPr>
          <p:spPr>
            <a:xfrm>
              <a:off x="694044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"/>
            <p:cNvSpPr/>
            <p:nvPr/>
          </p:nvSpPr>
          <p:spPr>
            <a:xfrm>
              <a:off x="708516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2"/>
            <p:cNvSpPr/>
            <p:nvPr/>
          </p:nvSpPr>
          <p:spPr>
            <a:xfrm>
              <a:off x="7229520" y="30747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1145520" y="25462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Ken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1147320" y="295740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J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071960" y="29350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138320" y="3425760"/>
              <a:ext cx="5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071960" y="340344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1146960" y="389412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u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071960" y="3857400"/>
              <a:ext cx="4343400" cy="1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0"/>
            <p:cNvSpPr/>
            <p:nvPr/>
          </p:nvSpPr>
          <p:spPr>
            <a:xfrm>
              <a:off x="1141200" y="436248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u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1"/>
            <p:cNvSpPr/>
            <p:nvPr/>
          </p:nvSpPr>
          <p:spPr>
            <a:xfrm>
              <a:off x="4071960" y="434016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2"/>
            <p:cNvSpPr/>
            <p:nvPr/>
          </p:nvSpPr>
          <p:spPr>
            <a:xfrm>
              <a:off x="1146600" y="4830840"/>
              <a:ext cx="49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K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3"/>
            <p:cNvSpPr/>
            <p:nvPr/>
          </p:nvSpPr>
          <p:spPr>
            <a:xfrm>
              <a:off x="4071960" y="48085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143720" y="529920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5"/>
            <p:cNvSpPr/>
            <p:nvPr/>
          </p:nvSpPr>
          <p:spPr>
            <a:xfrm>
              <a:off x="4071960" y="52768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6"/>
            <p:cNvSpPr/>
            <p:nvPr/>
          </p:nvSpPr>
          <p:spPr>
            <a:xfrm>
              <a:off x="2143080" y="242856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7"/>
            <p:cNvSpPr/>
            <p:nvPr/>
          </p:nvSpPr>
          <p:spPr>
            <a:xfrm>
              <a:off x="344016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8"/>
            <p:cNvSpPr/>
            <p:nvPr/>
          </p:nvSpPr>
          <p:spPr>
            <a:xfrm>
              <a:off x="4746600" y="30780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9"/>
            <p:cNvSpPr/>
            <p:nvPr/>
          </p:nvSpPr>
          <p:spPr>
            <a:xfrm>
              <a:off x="5289480" y="304308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0"/>
            <p:cNvSpPr/>
            <p:nvPr/>
          </p:nvSpPr>
          <p:spPr>
            <a:xfrm>
              <a:off x="5680080" y="30780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1"/>
            <p:cNvSpPr/>
            <p:nvPr/>
          </p:nvSpPr>
          <p:spPr>
            <a:xfrm>
              <a:off x="3500280" y="28573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2286000" y="3357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3"/>
            <p:cNvSpPr/>
            <p:nvPr/>
          </p:nvSpPr>
          <p:spPr>
            <a:xfrm>
              <a:off x="4240080" y="347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4"/>
            <p:cNvSpPr/>
            <p:nvPr/>
          </p:nvSpPr>
          <p:spPr>
            <a:xfrm>
              <a:off x="6364440" y="347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5"/>
            <p:cNvSpPr/>
            <p:nvPr/>
          </p:nvSpPr>
          <p:spPr>
            <a:xfrm>
              <a:off x="3429000" y="3643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6"/>
            <p:cNvSpPr/>
            <p:nvPr/>
          </p:nvSpPr>
          <p:spPr>
            <a:xfrm>
              <a:off x="243036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7"/>
            <p:cNvSpPr/>
            <p:nvPr/>
          </p:nvSpPr>
          <p:spPr>
            <a:xfrm>
              <a:off x="3286080" y="40719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8"/>
            <p:cNvSpPr/>
            <p:nvPr/>
          </p:nvSpPr>
          <p:spPr>
            <a:xfrm>
              <a:off x="427680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9"/>
            <p:cNvSpPr/>
            <p:nvPr/>
          </p:nvSpPr>
          <p:spPr>
            <a:xfrm>
              <a:off x="640080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0"/>
            <p:cNvSpPr/>
            <p:nvPr/>
          </p:nvSpPr>
          <p:spPr>
            <a:xfrm>
              <a:off x="3571920" y="47149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1"/>
            <p:cNvSpPr/>
            <p:nvPr/>
          </p:nvSpPr>
          <p:spPr>
            <a:xfrm>
              <a:off x="2286000" y="4786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2"/>
            <p:cNvSpPr/>
            <p:nvPr/>
          </p:nvSpPr>
          <p:spPr>
            <a:xfrm>
              <a:off x="2714760" y="43578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3"/>
            <p:cNvSpPr/>
            <p:nvPr/>
          </p:nvSpPr>
          <p:spPr>
            <a:xfrm>
              <a:off x="4313160" y="444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4"/>
            <p:cNvSpPr/>
            <p:nvPr/>
          </p:nvSpPr>
          <p:spPr>
            <a:xfrm>
              <a:off x="6437520" y="444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5"/>
            <p:cNvSpPr/>
            <p:nvPr/>
          </p:nvSpPr>
          <p:spPr>
            <a:xfrm>
              <a:off x="4276800" y="491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6"/>
            <p:cNvSpPr/>
            <p:nvPr/>
          </p:nvSpPr>
          <p:spPr>
            <a:xfrm>
              <a:off x="6400800" y="487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7"/>
            <p:cNvSpPr/>
            <p:nvPr/>
          </p:nvSpPr>
          <p:spPr>
            <a:xfrm>
              <a:off x="2357280" y="52149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8"/>
            <p:cNvSpPr/>
            <p:nvPr/>
          </p:nvSpPr>
          <p:spPr>
            <a:xfrm>
              <a:off x="2928960" y="52862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9"/>
            <p:cNvSpPr/>
            <p:nvPr/>
          </p:nvSpPr>
          <p:spPr>
            <a:xfrm>
              <a:off x="4240080" y="534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0"/>
            <p:cNvSpPr/>
            <p:nvPr/>
          </p:nvSpPr>
          <p:spPr>
            <a:xfrm>
              <a:off x="6364440" y="534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1"/>
            <p:cNvSpPr/>
            <p:nvPr/>
          </p:nvSpPr>
          <p:spPr>
            <a:xfrm>
              <a:off x="3530520" y="5380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2"/>
            <p:cNvSpPr/>
            <p:nvPr/>
          </p:nvSpPr>
          <p:spPr>
            <a:xfrm>
              <a:off x="6870600" y="49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3"/>
            <p:cNvSpPr/>
            <p:nvPr/>
          </p:nvSpPr>
          <p:spPr>
            <a:xfrm>
              <a:off x="7410600" y="498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4"/>
            <p:cNvSpPr/>
            <p:nvPr/>
          </p:nvSpPr>
          <p:spPr>
            <a:xfrm>
              <a:off x="7912080" y="487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5"/>
            <p:cNvSpPr/>
            <p:nvPr/>
          </p:nvSpPr>
          <p:spPr>
            <a:xfrm>
              <a:off x="7770960" y="300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6"/>
            <p:cNvSpPr/>
            <p:nvPr/>
          </p:nvSpPr>
          <p:spPr>
            <a:xfrm>
              <a:off x="6907320" y="39434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>
              <a:off x="1071720" y="29448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7"/>
            <p:cNvSpPr/>
            <p:nvPr/>
          </p:nvSpPr>
          <p:spPr>
            <a:xfrm>
              <a:off x="1071720" y="341316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9"/>
            <p:cNvSpPr/>
            <p:nvPr/>
          </p:nvSpPr>
          <p:spPr>
            <a:xfrm>
              <a:off x="1071720" y="388152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1071720" y="434988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3"/>
            <p:cNvSpPr/>
            <p:nvPr/>
          </p:nvSpPr>
          <p:spPr>
            <a:xfrm>
              <a:off x="1071720" y="4818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1071720" y="5286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四角形吹き出し 75"/>
          <p:cNvSpPr/>
          <p:nvPr/>
        </p:nvSpPr>
        <p:spPr>
          <a:xfrm>
            <a:off x="500040" y="928800"/>
            <a:ext cx="3714840" cy="500040"/>
          </a:xfrm>
          <a:prstGeom prst="wedgeRectCallout">
            <a:avLst>
              <a:gd name="adj1" fmla="val 20990"/>
              <a:gd name="adj2" fmla="val 282449"/>
            </a:avLst>
          </a:prstGeom>
          <a:solidFill>
            <a:srgbClr val="ebf1de"/>
          </a:solidFill>
          <a:ln w="381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o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四角形吹き出し 76"/>
          <p:cNvSpPr/>
          <p:nvPr/>
        </p:nvSpPr>
        <p:spPr>
          <a:xfrm>
            <a:off x="1500120" y="6000840"/>
            <a:ext cx="5572080" cy="500040"/>
          </a:xfrm>
          <a:prstGeom prst="wedgeRectCallout">
            <a:avLst>
              <a:gd name="adj1" fmla="val 25009"/>
              <a:gd name="adj2" fmla="val -245162"/>
            </a:avLst>
          </a:prstGeom>
          <a:solidFill>
            <a:srgbClr val="fdeada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who’s on working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四角形吹き出し 77"/>
          <p:cNvSpPr/>
          <p:nvPr/>
        </p:nvSpPr>
        <p:spPr>
          <a:xfrm>
            <a:off x="4929120" y="1071720"/>
            <a:ext cx="3286080" cy="928440"/>
          </a:xfrm>
          <a:prstGeom prst="wedgeRectCallout">
            <a:avLst>
              <a:gd name="adj1" fmla="val -31601"/>
              <a:gd name="adj2" fmla="val 162092"/>
            </a:avLst>
          </a:prstGeom>
          <a:solidFill>
            <a:srgbClr val="ffd2cf"/>
          </a:solidFill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ane is working to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Kanban"/>
          <p:cNvPicPr/>
          <p:nvPr/>
        </p:nvPicPr>
        <p:blipFill>
          <a:blip r:embed="rId1"/>
          <a:stretch/>
        </p:blipFill>
        <p:spPr>
          <a:xfrm>
            <a:off x="-117360" y="1071720"/>
            <a:ext cx="9343800" cy="4806720"/>
          </a:xfrm>
          <a:prstGeom prst="rect">
            <a:avLst/>
          </a:prstGeom>
          <a:ln w="0">
            <a:noFill/>
          </a:ln>
        </p:spPr>
      </p:pic>
      <p:sp>
        <p:nvSpPr>
          <p:cNvPr id="289" name="角丸四角形 5"/>
          <p:cNvSpPr/>
          <p:nvPr/>
        </p:nvSpPr>
        <p:spPr>
          <a:xfrm>
            <a:off x="0" y="1500120"/>
            <a:ext cx="8858160" cy="1500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角丸四角形 6"/>
          <p:cNvSpPr/>
          <p:nvPr/>
        </p:nvSpPr>
        <p:spPr>
          <a:xfrm>
            <a:off x="2286000" y="1285920"/>
            <a:ext cx="1214280" cy="3929040"/>
          </a:xfrm>
          <a:custGeom>
            <a:avLst/>
            <a:gdLst>
              <a:gd name="textAreaLeft" fmla="*/ 59040 w 1214280"/>
              <a:gd name="textAreaRight" fmla="*/ 1155240 w 1214280"/>
              <a:gd name="textAreaTop" fmla="*/ 59040 h 3929040"/>
              <a:gd name="textAreaBottom" fmla="*/ 3870000 h 3929040"/>
            </a:gdLst>
            <a:ahLst/>
            <a:rect l="textAreaLeft" t="textAreaTop" r="textAreaRight" b="textAreaBottom"/>
            <a:pathLst>
              <a:path w="21600" h="69877">
                <a:moveTo>
                  <a:pt x="3600" y="0"/>
                </a:moveTo>
                <a:arcTo wR="3600" hR="3600" stAng="16200000" swAng="-5400000"/>
                <a:lnTo>
                  <a:pt x="0" y="66277"/>
                </a:lnTo>
                <a:arcTo wR="3600" hR="3600" stAng="10800000" swAng="-5400000"/>
                <a:lnTo>
                  <a:pt x="18000" y="69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四角形吹き出し 7"/>
          <p:cNvSpPr/>
          <p:nvPr/>
        </p:nvSpPr>
        <p:spPr>
          <a:xfrm>
            <a:off x="1214280" y="285840"/>
            <a:ext cx="3714840" cy="500040"/>
          </a:xfrm>
          <a:prstGeom prst="wedgeRectCallout">
            <a:avLst>
              <a:gd name="adj1" fmla="val -41041"/>
              <a:gd name="adj2" fmla="val 177125"/>
            </a:avLst>
          </a:prstGeom>
          <a:solidFill>
            <a:srgbClr val="dbeef4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四角形吹き出し 8"/>
          <p:cNvSpPr/>
          <p:nvPr/>
        </p:nvSpPr>
        <p:spPr>
          <a:xfrm>
            <a:off x="357120" y="6143760"/>
            <a:ext cx="3714840" cy="500040"/>
          </a:xfrm>
          <a:prstGeom prst="wedgeRectCallout">
            <a:avLst>
              <a:gd name="adj1" fmla="val 17013"/>
              <a:gd name="adj2" fmla="val -226481"/>
            </a:avLst>
          </a:prstGeom>
          <a:solidFill>
            <a:srgbClr val="f2dcdb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角丸四角形 9"/>
          <p:cNvSpPr/>
          <p:nvPr/>
        </p:nvSpPr>
        <p:spPr>
          <a:xfrm flipV="1">
            <a:off x="3786120" y="3428280"/>
            <a:ext cx="2928960" cy="785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四角形吹き出し 10"/>
          <p:cNvSpPr/>
          <p:nvPr/>
        </p:nvSpPr>
        <p:spPr>
          <a:xfrm>
            <a:off x="5143680" y="4786200"/>
            <a:ext cx="3714480" cy="1785960"/>
          </a:xfrm>
          <a:prstGeom prst="wedgeRectCallout">
            <a:avLst>
              <a:gd name="adj1" fmla="val -49912"/>
              <a:gd name="adj2" fmla="val -88791"/>
            </a:avLst>
          </a:prstGeom>
          <a:solidFill>
            <a:srgbClr val="ebf1de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mmediat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 we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week, lat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285920" y="1500120"/>
            <a:ext cx="3978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264280" y="1500120"/>
            <a:ext cx="1323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6588000" y="1500120"/>
            <a:ext cx="22701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500040" y="1859040"/>
            <a:ext cx="4764240" cy="41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264280" y="1859040"/>
            <a:ext cx="1323720" cy="41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588000" y="1859040"/>
            <a:ext cx="2270160" cy="41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506600" y="5518080"/>
            <a:ext cx="47952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571760" y="3643200"/>
            <a:ext cx="47916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429000" y="321480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5643720" y="2643120"/>
            <a:ext cx="47916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7643880" y="264312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7643880" y="371484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7637400" y="3143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7786800" y="2643120"/>
            <a:ext cx="47916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1428840" y="4214880"/>
            <a:ext cx="47916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8"/>
          <p:cNvSpPr/>
          <p:nvPr/>
        </p:nvSpPr>
        <p:spPr>
          <a:xfrm>
            <a:off x="4622760" y="264312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9"/>
          <p:cNvSpPr/>
          <p:nvPr/>
        </p:nvSpPr>
        <p:spPr>
          <a:xfrm>
            <a:off x="2714760" y="3714840"/>
            <a:ext cx="47916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0"/>
          <p:cNvSpPr/>
          <p:nvPr/>
        </p:nvSpPr>
        <p:spPr>
          <a:xfrm>
            <a:off x="5715000" y="371484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1"/>
          <p:cNvSpPr/>
          <p:nvPr/>
        </p:nvSpPr>
        <p:spPr>
          <a:xfrm>
            <a:off x="2095560" y="5429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3"/>
          <p:cNvSpPr/>
          <p:nvPr/>
        </p:nvSpPr>
        <p:spPr>
          <a:xfrm>
            <a:off x="4552920" y="3160800"/>
            <a:ext cx="47952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4"/>
          <p:cNvSpPr/>
          <p:nvPr/>
        </p:nvSpPr>
        <p:spPr>
          <a:xfrm>
            <a:off x="6742080" y="3160800"/>
            <a:ext cx="47952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3571920" y="321480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6786720" y="3714840"/>
            <a:ext cx="47916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3571920" y="421488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1857240" y="421488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5"/>
          <p:cNvSpPr/>
          <p:nvPr/>
        </p:nvSpPr>
        <p:spPr>
          <a:xfrm>
            <a:off x="2714760" y="4143240"/>
            <a:ext cx="47916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6"/>
          <p:cNvSpPr/>
          <p:nvPr/>
        </p:nvSpPr>
        <p:spPr>
          <a:xfrm>
            <a:off x="6858000" y="464328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7"/>
          <p:cNvSpPr/>
          <p:nvPr/>
        </p:nvSpPr>
        <p:spPr>
          <a:xfrm>
            <a:off x="2714760" y="3214800"/>
            <a:ext cx="47916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8"/>
          <p:cNvSpPr/>
          <p:nvPr/>
        </p:nvSpPr>
        <p:spPr>
          <a:xfrm>
            <a:off x="2759040" y="5429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3786120" y="4214880"/>
            <a:ext cx="4795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3643200" y="5518080"/>
            <a:ext cx="47952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7693200" y="4660920"/>
            <a:ext cx="47916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7819920" y="464328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7988400" y="4660920"/>
            <a:ext cx="479160" cy="32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85920" y="1857240"/>
            <a:ext cx="117792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463840" y="1857240"/>
            <a:ext cx="88416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348000" y="1857240"/>
            <a:ext cx="103032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00040" y="5000760"/>
            <a:ext cx="3865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線コネクタ 79"/>
          <p:cNvSpPr/>
          <p:nvPr/>
        </p:nvSpPr>
        <p:spPr>
          <a:xfrm>
            <a:off x="2463840" y="2571840"/>
            <a:ext cx="0" cy="242892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線コネクタ 80"/>
          <p:cNvSpPr/>
          <p:nvPr/>
        </p:nvSpPr>
        <p:spPr>
          <a:xfrm>
            <a:off x="3348000" y="2571840"/>
            <a:ext cx="0" cy="242892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0" y="1857240"/>
            <a:ext cx="884520" cy="4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線コネクタ 82"/>
          <p:cNvSpPr/>
          <p:nvPr/>
        </p:nvSpPr>
        <p:spPr>
          <a:xfrm>
            <a:off x="7472520" y="2303640"/>
            <a:ext cx="0" cy="366228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7746840" y="3143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7858080" y="3143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8005680" y="314316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4365720" y="1857240"/>
            <a:ext cx="89856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線コネクタ 92"/>
          <p:cNvSpPr/>
          <p:nvPr/>
        </p:nvSpPr>
        <p:spPr>
          <a:xfrm>
            <a:off x="4365720" y="2571840"/>
            <a:ext cx="0" cy="344628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00040" y="1500120"/>
            <a:ext cx="785880" cy="10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500040" y="2573280"/>
            <a:ext cx="785880" cy="242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642960" y="2714760"/>
            <a:ext cx="479520" cy="3189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642960" y="3181320"/>
            <a:ext cx="479520" cy="3189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2"/>
          <p:cNvSpPr/>
          <p:nvPr/>
        </p:nvSpPr>
        <p:spPr>
          <a:xfrm>
            <a:off x="642960" y="3681360"/>
            <a:ext cx="479520" cy="31932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642960" y="4143240"/>
            <a:ext cx="479520" cy="31932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線コネクタ 102"/>
          <p:cNvSpPr/>
          <p:nvPr/>
        </p:nvSpPr>
        <p:spPr>
          <a:xfrm>
            <a:off x="500040" y="3071880"/>
            <a:ext cx="8358120" cy="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線コネクタ 105"/>
          <p:cNvSpPr/>
          <p:nvPr/>
        </p:nvSpPr>
        <p:spPr>
          <a:xfrm>
            <a:off x="500040" y="3571920"/>
            <a:ext cx="8358120" cy="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線コネクタ 106"/>
          <p:cNvSpPr/>
          <p:nvPr/>
        </p:nvSpPr>
        <p:spPr>
          <a:xfrm>
            <a:off x="500040" y="4071960"/>
            <a:ext cx="8358120" cy="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線コネクタ 107"/>
          <p:cNvSpPr/>
          <p:nvPr/>
        </p:nvSpPr>
        <p:spPr>
          <a:xfrm>
            <a:off x="500040" y="4572000"/>
            <a:ext cx="8358120" cy="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108"/>
          <p:cNvSpPr/>
          <p:nvPr/>
        </p:nvSpPr>
        <p:spPr>
          <a:xfrm>
            <a:off x="5286240" y="2571840"/>
            <a:ext cx="3571920" cy="0"/>
          </a:xfrm>
          <a:prstGeom prst="line">
            <a:avLst/>
          </a:prstGeom>
          <a:ln w="93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2"/>
          <p:cNvSpPr/>
          <p:nvPr/>
        </p:nvSpPr>
        <p:spPr>
          <a:xfrm>
            <a:off x="571680" y="4643280"/>
            <a:ext cx="642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0"/>
          <p:cNvSpPr/>
          <p:nvPr/>
        </p:nvSpPr>
        <p:spPr>
          <a:xfrm>
            <a:off x="3571920" y="4643280"/>
            <a:ext cx="479520" cy="3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Documents and Settings\yattom\デスクトップ\basic-kanban.png"/>
          <p:cNvPicPr/>
          <p:nvPr/>
        </p:nvPicPr>
        <p:blipFill>
          <a:blip r:embed="rId1"/>
          <a:stretch/>
        </p:blipFill>
        <p:spPr>
          <a:xfrm>
            <a:off x="0" y="1785960"/>
            <a:ext cx="9137520" cy="4014720"/>
          </a:xfrm>
          <a:prstGeom prst="rect">
            <a:avLst/>
          </a:prstGeom>
          <a:ln w="0">
            <a:noFill/>
          </a:ln>
        </p:spPr>
      </p:pic>
      <p:sp>
        <p:nvSpPr>
          <p:cNvPr id="359" name="テキスト ボックス 6"/>
          <p:cNvSpPr/>
          <p:nvPr/>
        </p:nvSpPr>
        <p:spPr>
          <a:xfrm>
            <a:off x="2214720" y="5572080"/>
            <a:ext cx="664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oted from Karl Scotland’s presentation at Lean Kanban Conference – Miami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leankanbanconference.com/presentation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© Copyright 2009 EMC Corporation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Game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ask Board (or Scrum-b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P and Queue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ame 2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Stag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Your Task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グループ化 42"/>
          <p:cNvGrpSpPr/>
          <p:nvPr/>
        </p:nvGrpSpPr>
        <p:grpSpPr>
          <a:xfrm>
            <a:off x="357120" y="1428840"/>
            <a:ext cx="8572680" cy="4286160"/>
            <a:chOff x="357120" y="1428840"/>
            <a:chExt cx="8572680" cy="4286160"/>
          </a:xfrm>
        </p:grpSpPr>
        <p:grpSp>
          <p:nvGrpSpPr>
            <p:cNvPr id="366" name="Group 1"/>
            <p:cNvGrpSpPr/>
            <p:nvPr/>
          </p:nvGrpSpPr>
          <p:grpSpPr>
            <a:xfrm>
              <a:off x="357120" y="1428840"/>
              <a:ext cx="8300160" cy="4286160"/>
              <a:chOff x="357120" y="1428840"/>
              <a:chExt cx="8300160" cy="4286160"/>
            </a:xfrm>
          </p:grpSpPr>
          <p:sp>
            <p:nvSpPr>
              <p:cNvPr id="367" name="Rectangle 18"/>
              <p:cNvSpPr/>
              <p:nvPr/>
            </p:nvSpPr>
            <p:spPr>
              <a:xfrm>
                <a:off x="357120" y="1428840"/>
                <a:ext cx="1659960" cy="428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7"/>
              <p:cNvSpPr/>
              <p:nvPr/>
            </p:nvSpPr>
            <p:spPr>
              <a:xfrm>
                <a:off x="357120" y="1428840"/>
                <a:ext cx="1659960" cy="794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To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16"/>
              <p:cNvSpPr/>
              <p:nvPr/>
            </p:nvSpPr>
            <p:spPr>
              <a:xfrm>
                <a:off x="707400" y="2619720"/>
                <a:ext cx="1053000" cy="71424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15"/>
              <p:cNvSpPr/>
              <p:nvPr/>
            </p:nvSpPr>
            <p:spPr>
              <a:xfrm>
                <a:off x="707400" y="3849840"/>
                <a:ext cx="1053000" cy="71460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2017080" y="1428840"/>
                <a:ext cx="1659960" cy="428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3"/>
              <p:cNvSpPr/>
              <p:nvPr/>
            </p:nvSpPr>
            <p:spPr>
              <a:xfrm>
                <a:off x="2017080" y="1428840"/>
                <a:ext cx="1659960" cy="794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"/>
              <p:cNvSpPr/>
              <p:nvPr/>
            </p:nvSpPr>
            <p:spPr>
              <a:xfrm>
                <a:off x="3677040" y="1428840"/>
                <a:ext cx="1659960" cy="428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1"/>
              <p:cNvSpPr/>
              <p:nvPr/>
            </p:nvSpPr>
            <p:spPr>
              <a:xfrm>
                <a:off x="3677040" y="1428840"/>
                <a:ext cx="1659960" cy="794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Develop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0"/>
              <p:cNvSpPr/>
              <p:nvPr/>
            </p:nvSpPr>
            <p:spPr>
              <a:xfrm>
                <a:off x="5337360" y="1428840"/>
                <a:ext cx="1659960" cy="428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9"/>
              <p:cNvSpPr/>
              <p:nvPr/>
            </p:nvSpPr>
            <p:spPr>
              <a:xfrm>
                <a:off x="5337360" y="1428840"/>
                <a:ext cx="1659960" cy="794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Te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6997320" y="1428840"/>
                <a:ext cx="1659960" cy="428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7"/>
              <p:cNvSpPr/>
              <p:nvPr/>
            </p:nvSpPr>
            <p:spPr>
              <a:xfrm>
                <a:off x="6997320" y="1428840"/>
                <a:ext cx="1659960" cy="794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D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6"/>
              <p:cNvSpPr/>
              <p:nvPr/>
            </p:nvSpPr>
            <p:spPr>
              <a:xfrm>
                <a:off x="2241000" y="2957040"/>
                <a:ext cx="1053000" cy="71424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5"/>
              <p:cNvSpPr/>
              <p:nvPr/>
            </p:nvSpPr>
            <p:spPr>
              <a:xfrm>
                <a:off x="3934800" y="2619720"/>
                <a:ext cx="1053000" cy="71424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4"/>
              <p:cNvSpPr/>
              <p:nvPr/>
            </p:nvSpPr>
            <p:spPr>
              <a:xfrm>
                <a:off x="3934800" y="3849840"/>
                <a:ext cx="1053000" cy="71460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3"/>
              <p:cNvSpPr/>
              <p:nvPr/>
            </p:nvSpPr>
            <p:spPr>
              <a:xfrm>
                <a:off x="5725440" y="2798280"/>
                <a:ext cx="1053000" cy="71424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2"/>
              <p:cNvSpPr/>
              <p:nvPr/>
            </p:nvSpPr>
            <p:spPr>
              <a:xfrm>
                <a:off x="7304400" y="2466360"/>
                <a:ext cx="1053000" cy="71424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92d05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AutoShape 2"/>
            <p:cNvSpPr/>
            <p:nvPr/>
          </p:nvSpPr>
          <p:spPr>
            <a:xfrm>
              <a:off x="1323720" y="3351600"/>
              <a:ext cx="1496520" cy="647280"/>
            </a:xfrm>
            <a:custGeom>
              <a:avLst/>
              <a:gdLst>
                <a:gd name="textAreaLeft" fmla="*/ 281160 w 1496520"/>
                <a:gd name="textAreaRight" fmla="*/ 988560 w 1496520"/>
                <a:gd name="textAreaTop" fmla="*/ 86760 h 647280"/>
                <a:gd name="textAreaBottom" fmla="*/ 5605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"/>
            <p:cNvSpPr/>
            <p:nvPr/>
          </p:nvSpPr>
          <p:spPr>
            <a:xfrm>
              <a:off x="3092760" y="4275360"/>
              <a:ext cx="1496520" cy="647280"/>
            </a:xfrm>
            <a:custGeom>
              <a:avLst/>
              <a:gdLst>
                <a:gd name="textAreaLeft" fmla="*/ 281160 w 1496520"/>
                <a:gd name="textAreaRight" fmla="*/ 988560 w 1496520"/>
                <a:gd name="textAreaTop" fmla="*/ 86760 h 647280"/>
                <a:gd name="textAreaBottom" fmla="*/ 5605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4643640" y="4275360"/>
              <a:ext cx="1493280" cy="647280"/>
            </a:xfrm>
            <a:custGeom>
              <a:avLst/>
              <a:gdLst>
                <a:gd name="textAreaLeft" fmla="*/ 280440 w 1493280"/>
                <a:gd name="textAreaRight" fmla="*/ 986400 w 1493280"/>
                <a:gd name="textAreaTop" fmla="*/ 86760 h 647280"/>
                <a:gd name="textAreaBottom" fmla="*/ 5605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6451920" y="3351600"/>
              <a:ext cx="1493280" cy="647280"/>
            </a:xfrm>
            <a:custGeom>
              <a:avLst/>
              <a:gdLst>
                <a:gd name="textAreaLeft" fmla="*/ 280440 w 1493280"/>
                <a:gd name="textAreaRight" fmla="*/ 986400 w 1493280"/>
                <a:gd name="textAreaTop" fmla="*/ 86760 h 647280"/>
                <a:gd name="textAreaBottom" fmla="*/ 5605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"/>
            <p:cNvSpPr/>
            <p:nvPr/>
          </p:nvSpPr>
          <p:spPr>
            <a:xfrm>
              <a:off x="1323720" y="4058280"/>
              <a:ext cx="1618560" cy="8938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Start 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"/>
            <p:cNvSpPr/>
            <p:nvPr/>
          </p:nvSpPr>
          <p:spPr>
            <a:xfrm>
              <a:off x="3092760" y="5133240"/>
              <a:ext cx="3358800" cy="532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Finished each s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6373080" y="4242600"/>
              <a:ext cx="2556720" cy="4665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Comple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正方形/長方形 47"/>
          <p:cNvSpPr/>
          <p:nvPr/>
        </p:nvSpPr>
        <p:spPr>
          <a:xfrm>
            <a:off x="357120" y="5715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ges (design, development and test) are hypothetical, just an example for this work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 Assign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human resources (you!) to s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change the assign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an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assign at the beginning of an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ds and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rds stick on 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ory wi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ble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not move to the next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till work on (= roll dice) but never fin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rds can sol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your hand for later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</a:t>
            </a: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your hand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what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argue how the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lv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WordArt 109"/>
          <p:cNvSpPr txBox="1"/>
          <p:nvPr/>
        </p:nvSpPr>
        <p:spPr>
          <a:xfrm>
            <a:off x="500040" y="571680"/>
            <a:ext cx="21272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Proble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97" name="WordArt 109"/>
          <p:cNvSpPr txBox="1"/>
          <p:nvPr/>
        </p:nvSpPr>
        <p:spPr>
          <a:xfrm>
            <a:off x="5072040" y="571680"/>
            <a:ext cx="21988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7365d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Solution</a:t>
            </a:r>
            <a:endParaRPr b="0" lang="en-US" sz="1800" spc="1" strike="noStrike">
              <a:ln w="0">
                <a:noFill/>
              </a:ln>
              <a:solidFill>
                <a:srgbClr val="17365d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change sign-up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ly wh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to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’re currently working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block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rrange and rebalance human resourc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each 3 rou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3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00"/>
                </a:solidFill>
                <a:latin typeface="Impact"/>
              </a:rPr>
              <a:t>You mean it!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Set off when you’re ready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is Game2 is for 30 m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Retrospectiv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ame 1 &amp;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in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bout strateg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write them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lipchar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ffee  Br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ll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15:5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ame 3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IP and Queue limi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nban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u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C:\Documents and Settings\yattom\デスクトップ\basic-kanban.png"/>
          <p:cNvPicPr/>
          <p:nvPr/>
        </p:nvPicPr>
        <p:blipFill>
          <a:blip r:embed="rId1"/>
          <a:stretch/>
        </p:blipFill>
        <p:spPr>
          <a:xfrm>
            <a:off x="0" y="1785960"/>
            <a:ext cx="9137520" cy="4014720"/>
          </a:xfrm>
          <a:prstGeom prst="rect">
            <a:avLst/>
          </a:prstGeom>
          <a:ln w="0">
            <a:noFill/>
          </a:ln>
        </p:spPr>
      </p:pic>
      <p:sp>
        <p:nvSpPr>
          <p:cNvPr id="413" name="テキスト ボックス 6"/>
          <p:cNvSpPr/>
          <p:nvPr/>
        </p:nvSpPr>
        <p:spPr>
          <a:xfrm>
            <a:off x="2214720" y="5572080"/>
            <a:ext cx="664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oted from Karl Scotland’s presentation at Kanban Conference – Miami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leankanbanconference.com/presentation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© Copyright 2009 EMC Corporation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-10000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テキスト ボックス 6"/>
          <p:cNvSpPr/>
          <p:nvPr/>
        </p:nvSpPr>
        <p:spPr>
          <a:xfrm>
            <a:off x="2214720" y="5572080"/>
            <a:ext cx="664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oted from Karl Scotland’s presentation at Kanban Conference – Miami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leankanbanconference.com/presentation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© Copyright 2009 EMC Corporation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Your Task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正方形/長方形 47"/>
          <p:cNvSpPr/>
          <p:nvPr/>
        </p:nvSpPr>
        <p:spPr>
          <a:xfrm>
            <a:off x="357120" y="57150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limits explicitly with Post-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グループ化 81"/>
          <p:cNvGrpSpPr/>
          <p:nvPr/>
        </p:nvGrpSpPr>
        <p:grpSpPr>
          <a:xfrm>
            <a:off x="214200" y="1357200"/>
            <a:ext cx="8643960" cy="4214880"/>
            <a:chOff x="214200" y="1357200"/>
            <a:chExt cx="8643960" cy="4214880"/>
          </a:xfrm>
        </p:grpSpPr>
        <p:grpSp>
          <p:nvGrpSpPr>
            <p:cNvPr id="421" name="Group 2"/>
            <p:cNvGrpSpPr/>
            <p:nvPr/>
          </p:nvGrpSpPr>
          <p:grpSpPr>
            <a:xfrm>
              <a:off x="214200" y="1357200"/>
              <a:ext cx="8643960" cy="4214880"/>
              <a:chOff x="214200" y="1357200"/>
              <a:chExt cx="8643960" cy="4214880"/>
            </a:xfrm>
          </p:grpSpPr>
          <p:sp>
            <p:nvSpPr>
              <p:cNvPr id="422" name="Rectangle 3"/>
              <p:cNvSpPr/>
              <p:nvPr/>
            </p:nvSpPr>
            <p:spPr>
              <a:xfrm>
                <a:off x="214200" y="1357200"/>
                <a:ext cx="1169280" cy="421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4"/>
              <p:cNvSpPr/>
              <p:nvPr/>
            </p:nvSpPr>
            <p:spPr>
              <a:xfrm>
                <a:off x="214200" y="1357200"/>
                <a:ext cx="1169280" cy="780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To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5"/>
              <p:cNvSpPr/>
              <p:nvPr/>
            </p:nvSpPr>
            <p:spPr>
              <a:xfrm>
                <a:off x="7889040" y="1357200"/>
                <a:ext cx="969120" cy="421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6"/>
              <p:cNvSpPr/>
              <p:nvPr/>
            </p:nvSpPr>
            <p:spPr>
              <a:xfrm>
                <a:off x="7889040" y="1357200"/>
                <a:ext cx="969120" cy="780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D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Group 7"/>
              <p:cNvGrpSpPr/>
              <p:nvPr/>
            </p:nvGrpSpPr>
            <p:grpSpPr>
              <a:xfrm>
                <a:off x="1361520" y="1357200"/>
                <a:ext cx="2174040" cy="4214880"/>
                <a:chOff x="1361520" y="1357200"/>
                <a:chExt cx="2174040" cy="4214880"/>
              </a:xfrm>
            </p:grpSpPr>
            <p:sp>
              <p:nvSpPr>
                <p:cNvPr id="427" name="Rectangle 8"/>
                <p:cNvSpPr/>
                <p:nvPr/>
              </p:nvSpPr>
              <p:spPr>
                <a:xfrm>
                  <a:off x="1361520" y="1357200"/>
                  <a:ext cx="107208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9"/>
                <p:cNvSpPr/>
                <p:nvPr/>
              </p:nvSpPr>
              <p:spPr>
                <a:xfrm>
                  <a:off x="1361520" y="1872720"/>
                  <a:ext cx="107208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Queu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10"/>
                <p:cNvSpPr/>
                <p:nvPr/>
              </p:nvSpPr>
              <p:spPr>
                <a:xfrm>
                  <a:off x="2433600" y="1357200"/>
                  <a:ext cx="110196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Text Box 11"/>
                <p:cNvSpPr/>
                <p:nvPr/>
              </p:nvSpPr>
              <p:spPr>
                <a:xfrm>
                  <a:off x="2433600" y="1872720"/>
                  <a:ext cx="110196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WI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 Box 12"/>
                <p:cNvSpPr/>
                <p:nvPr/>
              </p:nvSpPr>
              <p:spPr>
                <a:xfrm>
                  <a:off x="1362600" y="1357200"/>
                  <a:ext cx="2172960" cy="5155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Desig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3"/>
              <p:cNvGrpSpPr/>
              <p:nvPr/>
            </p:nvGrpSpPr>
            <p:grpSpPr>
              <a:xfrm>
                <a:off x="3536280" y="1357200"/>
                <a:ext cx="2174040" cy="4214880"/>
                <a:chOff x="3536280" y="1357200"/>
                <a:chExt cx="2174040" cy="421488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3536280" y="1357200"/>
                  <a:ext cx="107208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15"/>
                <p:cNvSpPr/>
                <p:nvPr/>
              </p:nvSpPr>
              <p:spPr>
                <a:xfrm>
                  <a:off x="3536280" y="1872720"/>
                  <a:ext cx="107208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Queu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6"/>
                <p:cNvSpPr/>
                <p:nvPr/>
              </p:nvSpPr>
              <p:spPr>
                <a:xfrm>
                  <a:off x="4608360" y="1357200"/>
                  <a:ext cx="110196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Text Box 17"/>
                <p:cNvSpPr/>
                <p:nvPr/>
              </p:nvSpPr>
              <p:spPr>
                <a:xfrm>
                  <a:off x="4608360" y="1872720"/>
                  <a:ext cx="110196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WI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Text Box 18"/>
                <p:cNvSpPr/>
                <p:nvPr/>
              </p:nvSpPr>
              <p:spPr>
                <a:xfrm>
                  <a:off x="3537360" y="1357200"/>
                  <a:ext cx="2172960" cy="5155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Develop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Group 19"/>
              <p:cNvGrpSpPr/>
              <p:nvPr/>
            </p:nvGrpSpPr>
            <p:grpSpPr>
              <a:xfrm>
                <a:off x="5710680" y="1357200"/>
                <a:ext cx="2174040" cy="4214880"/>
                <a:chOff x="5710680" y="1357200"/>
                <a:chExt cx="2174040" cy="4214880"/>
              </a:xfrm>
            </p:grpSpPr>
            <p:sp>
              <p:nvSpPr>
                <p:cNvPr id="439" name="Rectangle 20"/>
                <p:cNvSpPr/>
                <p:nvPr/>
              </p:nvSpPr>
              <p:spPr>
                <a:xfrm>
                  <a:off x="5710680" y="1357200"/>
                  <a:ext cx="107208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Text Box 21"/>
                <p:cNvSpPr/>
                <p:nvPr/>
              </p:nvSpPr>
              <p:spPr>
                <a:xfrm>
                  <a:off x="5710680" y="1872720"/>
                  <a:ext cx="107208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Queu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22"/>
                <p:cNvSpPr/>
                <p:nvPr/>
              </p:nvSpPr>
              <p:spPr>
                <a:xfrm>
                  <a:off x="6782760" y="1357200"/>
                  <a:ext cx="1101960" cy="421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Text Box 23"/>
                <p:cNvSpPr/>
                <p:nvPr/>
              </p:nvSpPr>
              <p:spPr>
                <a:xfrm>
                  <a:off x="6782760" y="1872720"/>
                  <a:ext cx="1101960" cy="5155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WI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Text Box 24"/>
                <p:cNvSpPr/>
                <p:nvPr/>
              </p:nvSpPr>
              <p:spPr>
                <a:xfrm>
                  <a:off x="5711760" y="1357200"/>
                  <a:ext cx="2172960" cy="5155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Te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" name="AutoShape 25"/>
            <p:cNvSpPr/>
            <p:nvPr/>
          </p:nvSpPr>
          <p:spPr>
            <a:xfrm>
              <a:off x="362160" y="249912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6"/>
            <p:cNvSpPr/>
            <p:nvPr/>
          </p:nvSpPr>
          <p:spPr>
            <a:xfrm>
              <a:off x="362160" y="320796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7"/>
            <p:cNvSpPr/>
            <p:nvPr/>
          </p:nvSpPr>
          <p:spPr>
            <a:xfrm>
              <a:off x="5895000" y="261000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28"/>
            <p:cNvSpPr/>
            <p:nvPr/>
          </p:nvSpPr>
          <p:spPr>
            <a:xfrm>
              <a:off x="989640" y="2978640"/>
              <a:ext cx="902880" cy="554040"/>
            </a:xfrm>
            <a:custGeom>
              <a:avLst/>
              <a:gdLst>
                <a:gd name="textAreaLeft" fmla="*/ 169560 w 902880"/>
                <a:gd name="textAreaRight" fmla="*/ 596160 w 90288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9"/>
            <p:cNvSpPr/>
            <p:nvPr/>
          </p:nvSpPr>
          <p:spPr>
            <a:xfrm>
              <a:off x="989640" y="3533040"/>
              <a:ext cx="975960" cy="765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Start Wor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30"/>
            <p:cNvSpPr/>
            <p:nvPr/>
          </p:nvSpPr>
          <p:spPr>
            <a:xfrm>
              <a:off x="1892880" y="3868200"/>
              <a:ext cx="900720" cy="554040"/>
            </a:xfrm>
            <a:custGeom>
              <a:avLst/>
              <a:gdLst>
                <a:gd name="textAreaLeft" fmla="*/ 169200 w 900720"/>
                <a:gd name="textAreaRight" fmla="*/ 595080 w 90072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1663560" y="4422240"/>
              <a:ext cx="1566000" cy="765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Start Working on this st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32"/>
            <p:cNvSpPr/>
            <p:nvPr/>
          </p:nvSpPr>
          <p:spPr>
            <a:xfrm>
              <a:off x="4232880" y="3868200"/>
              <a:ext cx="902880" cy="554040"/>
            </a:xfrm>
            <a:custGeom>
              <a:avLst/>
              <a:gdLst>
                <a:gd name="textAreaLeft" fmla="*/ 169560 w 902880"/>
                <a:gd name="textAreaRight" fmla="*/ 596160 w 90288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33"/>
            <p:cNvSpPr/>
            <p:nvPr/>
          </p:nvSpPr>
          <p:spPr>
            <a:xfrm>
              <a:off x="6318360" y="3999600"/>
              <a:ext cx="900720" cy="554040"/>
            </a:xfrm>
            <a:custGeom>
              <a:avLst/>
              <a:gdLst>
                <a:gd name="textAreaLeft" fmla="*/ 169200 w 900720"/>
                <a:gd name="textAreaRight" fmla="*/ 595080 w 90072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102480" y="3917160"/>
              <a:ext cx="1130040" cy="765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Finished the st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5"/>
            <p:cNvSpPr/>
            <p:nvPr/>
          </p:nvSpPr>
          <p:spPr>
            <a:xfrm>
              <a:off x="5342040" y="3357720"/>
              <a:ext cx="900720" cy="554040"/>
            </a:xfrm>
            <a:custGeom>
              <a:avLst/>
              <a:gdLst>
                <a:gd name="textAreaLeft" fmla="*/ 169200 w 900720"/>
                <a:gd name="textAreaRight" fmla="*/ 595080 w 90072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6"/>
            <p:cNvSpPr/>
            <p:nvPr/>
          </p:nvSpPr>
          <p:spPr>
            <a:xfrm>
              <a:off x="7508880" y="3092040"/>
              <a:ext cx="902880" cy="551520"/>
            </a:xfrm>
            <a:custGeom>
              <a:avLst/>
              <a:gdLst>
                <a:gd name="textAreaLeft" fmla="*/ 169560 w 902880"/>
                <a:gd name="textAreaRight" fmla="*/ 596160 w 902880"/>
                <a:gd name="textAreaTop" fmla="*/ 73800 h 551520"/>
                <a:gd name="textAreaBottom" fmla="*/ 477720 h 55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7"/>
            <p:cNvSpPr/>
            <p:nvPr/>
          </p:nvSpPr>
          <p:spPr>
            <a:xfrm>
              <a:off x="7400520" y="3788280"/>
              <a:ext cx="1243080" cy="3996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omic Sans MS"/>
                  <a:ea typeface="ＭＳ 明朝"/>
                </a:rPr>
                <a:t>Comple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8"/>
            <p:cNvSpPr/>
            <p:nvPr/>
          </p:nvSpPr>
          <p:spPr>
            <a:xfrm>
              <a:off x="5619600" y="4071960"/>
              <a:ext cx="1249200" cy="487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Queue Li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9"/>
            <p:cNvSpPr/>
            <p:nvPr/>
          </p:nvSpPr>
          <p:spPr>
            <a:xfrm>
              <a:off x="6758280" y="3401640"/>
              <a:ext cx="1069560" cy="378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WIP Li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40"/>
            <p:cNvSpPr/>
            <p:nvPr/>
          </p:nvSpPr>
          <p:spPr>
            <a:xfrm>
              <a:off x="362160" y="395820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41"/>
            <p:cNvSpPr/>
            <p:nvPr/>
          </p:nvSpPr>
          <p:spPr>
            <a:xfrm>
              <a:off x="2608200" y="260748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42"/>
            <p:cNvSpPr/>
            <p:nvPr/>
          </p:nvSpPr>
          <p:spPr>
            <a:xfrm>
              <a:off x="4806360" y="260748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43"/>
            <p:cNvSpPr/>
            <p:nvPr/>
          </p:nvSpPr>
          <p:spPr>
            <a:xfrm>
              <a:off x="3711240" y="260748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44"/>
            <p:cNvSpPr/>
            <p:nvPr/>
          </p:nvSpPr>
          <p:spPr>
            <a:xfrm>
              <a:off x="3711240" y="336024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45"/>
            <p:cNvSpPr/>
            <p:nvPr/>
          </p:nvSpPr>
          <p:spPr>
            <a:xfrm>
              <a:off x="6948000" y="260748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46"/>
            <p:cNvSpPr/>
            <p:nvPr/>
          </p:nvSpPr>
          <p:spPr>
            <a:xfrm>
              <a:off x="8055360" y="2494080"/>
              <a:ext cx="706680" cy="5979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6" name="AutoShape 47"/>
            <p:cNvCxnSpPr/>
            <p:nvPr/>
          </p:nvCxnSpPr>
          <p:spPr>
            <a:xfrm>
              <a:off x="2508120" y="3357360"/>
              <a:ext cx="978480" cy="324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sp>
          <p:nvSpPr>
            <p:cNvPr id="467" name="AutoShape 48"/>
            <p:cNvSpPr/>
            <p:nvPr/>
          </p:nvSpPr>
          <p:spPr>
            <a:xfrm>
              <a:off x="3102480" y="3357720"/>
              <a:ext cx="902880" cy="554040"/>
            </a:xfrm>
            <a:custGeom>
              <a:avLst/>
              <a:gdLst>
                <a:gd name="textAreaLeft" fmla="*/ 169560 w 902880"/>
                <a:gd name="textAreaRight" fmla="*/ 596160 w 902880"/>
                <a:gd name="textAreaTop" fmla="*/ 74160 h 554040"/>
                <a:gd name="textAreaBottom" fmla="*/ 479880 h 5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AutoShape 49"/>
            <p:cNvCxnSpPr/>
            <p:nvPr/>
          </p:nvCxnSpPr>
          <p:spPr>
            <a:xfrm>
              <a:off x="1414800" y="3957840"/>
              <a:ext cx="97668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469" name="AutoShape 50"/>
            <p:cNvCxnSpPr/>
            <p:nvPr/>
          </p:nvCxnSpPr>
          <p:spPr>
            <a:xfrm>
              <a:off x="3565080" y="4767480"/>
              <a:ext cx="976680" cy="324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470" name="AutoShape 51"/>
            <p:cNvCxnSpPr/>
            <p:nvPr/>
          </p:nvCxnSpPr>
          <p:spPr>
            <a:xfrm>
              <a:off x="4670640" y="3955320"/>
              <a:ext cx="978480" cy="324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471" name="AutoShape 52"/>
            <p:cNvCxnSpPr/>
            <p:nvPr/>
          </p:nvCxnSpPr>
          <p:spPr>
            <a:xfrm>
              <a:off x="5781960" y="3957840"/>
              <a:ext cx="976680" cy="324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472" name="AutoShape 53"/>
            <p:cNvCxnSpPr/>
            <p:nvPr/>
          </p:nvCxnSpPr>
          <p:spPr>
            <a:xfrm>
              <a:off x="6851880" y="3318480"/>
              <a:ext cx="976680" cy="324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P and Queu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IP, no more cards than the number of assigned personnel are allo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Queue, team decides the li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and see, change as you 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Stories can be worked on while the Queue in the next stage is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of Requirement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end of an iteration, roll 2 dice for each Story on the board (except Done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ouble 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Story is changed and it needs to be started from ToD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Kanban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Set off when you’re ready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is Game3 is for 30 m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Retrospectiv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ame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ame materials are open and f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yattom.j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not enough for every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d love feedback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d5b5"/>
                </a:solidFill>
                <a:latin typeface="Monotype Corsiva"/>
              </a:rPr>
              <a:t>Thank you for com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テキスト ボックス 3"/>
          <p:cNvSpPr/>
          <p:nvPr/>
        </p:nvSpPr>
        <p:spPr>
          <a:xfrm>
            <a:off x="1714680" y="3929040"/>
            <a:ext cx="550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utomu YA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-yasui@esm.co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yattom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tter: @ya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2786040" y="5286240"/>
            <a:ext cx="153828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1049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28760" y="3571920"/>
            <a:ext cx="21430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214308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857160" y="4286160"/>
            <a:ext cx="21430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テキスト ボックス 8"/>
          <p:cNvSpPr/>
          <p:nvPr/>
        </p:nvSpPr>
        <p:spPr>
          <a:xfrm>
            <a:off x="428760" y="28576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10 Story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9"/>
          <p:cNvSpPr/>
          <p:nvPr/>
        </p:nvSpPr>
        <p:spPr>
          <a:xfrm>
            <a:off x="428760" y="557208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30 Chance!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(Solution, Problem, and 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4286160" y="1428840"/>
            <a:ext cx="2830680" cy="24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11"/>
          <p:cNvSpPr/>
          <p:nvPr/>
        </p:nvSpPr>
        <p:spPr>
          <a:xfrm>
            <a:off x="4357800" y="39290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Progress Record Sheet</a:t>
            </a:r>
            <a:r>
              <a:rPr b="0" lang="ja-JP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2"/>
          <p:cNvSpPr/>
          <p:nvPr/>
        </p:nvSpPr>
        <p:spPr>
          <a:xfrm>
            <a:off x="4357800" y="514368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Post it – for drawing Kanban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2 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Toothpicks for chips (a 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A Few 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072120" cy="3668760"/>
          </a:xfrm>
          <a:prstGeom prst="rect">
            <a:avLst/>
          </a:prstGeom>
          <a:ln w="25560">
            <a:solidFill>
              <a:srgbClr val="404040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ry Card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imated Work Ef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8"/>
          <p:cNvSpPr/>
          <p:nvPr/>
        </p:nvSpPr>
        <p:spPr>
          <a:xfrm>
            <a:off x="428760" y="5500800"/>
            <a:ext cx="2000160" cy="916920"/>
          </a:xfrm>
          <a:prstGeom prst="borderCallout1">
            <a:avLst>
              <a:gd name="adj1" fmla="val 18750"/>
              <a:gd name="adj2" fmla="val -8333"/>
              <a:gd name="adj3" fmla="val 1370"/>
              <a:gd name="adj4" fmla="val 58412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4"/>
          <p:cNvSpPr/>
          <p:nvPr/>
        </p:nvSpPr>
        <p:spPr>
          <a:xfrm>
            <a:off x="2786040" y="5500800"/>
            <a:ext cx="1357200" cy="1191240"/>
          </a:xfrm>
          <a:prstGeom prst="borderCallout1">
            <a:avLst>
              <a:gd name="adj1" fmla="val 18750"/>
              <a:gd name="adj2" fmla="val -8333"/>
              <a:gd name="adj3" fmla="val 1328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15"/>
          <p:cNvSpPr/>
          <p:nvPr/>
        </p:nvSpPr>
        <p:spPr>
          <a:xfrm>
            <a:off x="4286160" y="5500800"/>
            <a:ext cx="1857600" cy="916920"/>
          </a:xfrm>
          <a:prstGeom prst="borderCallout1">
            <a:avLst>
              <a:gd name="adj1" fmla="val 18750"/>
              <a:gd name="adj2" fmla="val -8333"/>
              <a:gd name="adj3" fmla="val 1370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16"/>
          <p:cNvSpPr/>
          <p:nvPr/>
        </p:nvSpPr>
        <p:spPr>
          <a:xfrm>
            <a:off x="6286680" y="5429160"/>
            <a:ext cx="1357200" cy="916920"/>
          </a:xfrm>
          <a:prstGeom prst="borderCallout1">
            <a:avLst>
              <a:gd name="adj1" fmla="val 18750"/>
              <a:gd name="adj2" fmla="val -8333"/>
              <a:gd name="adj3" fmla="val 1333"/>
              <a:gd name="adj4" fmla="val 58416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Estimated hours to finish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7"/>
          <p:cNvSpPr/>
          <p:nvPr/>
        </p:nvSpPr>
        <p:spPr>
          <a:xfrm>
            <a:off x="6786720" y="2143080"/>
            <a:ext cx="2000160" cy="368280"/>
          </a:xfrm>
          <a:prstGeom prst="borderCallout1">
            <a:avLst>
              <a:gd name="adj1" fmla="val 18750"/>
              <a:gd name="adj2" fmla="val -8333"/>
              <a:gd name="adj3" fmla="val 46972"/>
              <a:gd name="adj4" fmla="val 250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ID &amp;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雲形吹き出し 9"/>
          <p:cNvSpPr/>
          <p:nvPr/>
        </p:nvSpPr>
        <p:spPr>
          <a:xfrm>
            <a:off x="0" y="2214720"/>
            <a:ext cx="4214880" cy="1714320"/>
          </a:xfrm>
          <a:prstGeom prst="cloudCallout">
            <a:avLst>
              <a:gd name="adj1" fmla="val 21606"/>
              <a:gd name="adj2" fmla="val 61074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the handout it’s d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it’s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your Kanban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グループ化 19"/>
          <p:cNvGrpSpPr/>
          <p:nvPr/>
        </p:nvGrpSpPr>
        <p:grpSpPr>
          <a:xfrm>
            <a:off x="642960" y="1571760"/>
            <a:ext cx="7929720" cy="3429000"/>
            <a:chOff x="642960" y="1571760"/>
            <a:chExt cx="7929720" cy="3429000"/>
          </a:xfrm>
        </p:grpSpPr>
        <p:sp>
          <p:nvSpPr>
            <p:cNvPr id="78" name="正方形/長方形 3"/>
            <p:cNvSpPr/>
            <p:nvPr/>
          </p:nvSpPr>
          <p:spPr>
            <a:xfrm>
              <a:off x="642960" y="1571760"/>
              <a:ext cx="7929720" cy="342900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メモ 4"/>
            <p:cNvSpPr/>
            <p:nvPr/>
          </p:nvSpPr>
          <p:spPr>
            <a:xfrm>
              <a:off x="785520" y="1714320"/>
              <a:ext cx="100008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To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メモ 5"/>
            <p:cNvSpPr/>
            <p:nvPr/>
          </p:nvSpPr>
          <p:spPr>
            <a:xfrm>
              <a:off x="1928880" y="1714320"/>
              <a:ext cx="157140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メモ 6"/>
            <p:cNvSpPr/>
            <p:nvPr/>
          </p:nvSpPr>
          <p:spPr>
            <a:xfrm>
              <a:off x="1928880" y="2214720"/>
              <a:ext cx="7855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メモ 7"/>
            <p:cNvSpPr/>
            <p:nvPr/>
          </p:nvSpPr>
          <p:spPr>
            <a:xfrm>
              <a:off x="2857320" y="2214720"/>
              <a:ext cx="64296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W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メモ 11"/>
            <p:cNvSpPr/>
            <p:nvPr/>
          </p:nvSpPr>
          <p:spPr>
            <a:xfrm>
              <a:off x="3714840" y="1714320"/>
              <a:ext cx="157140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メモ 12"/>
            <p:cNvSpPr/>
            <p:nvPr/>
          </p:nvSpPr>
          <p:spPr>
            <a:xfrm>
              <a:off x="3714840" y="2214720"/>
              <a:ext cx="7855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メモ 13"/>
            <p:cNvSpPr/>
            <p:nvPr/>
          </p:nvSpPr>
          <p:spPr>
            <a:xfrm>
              <a:off x="4643640" y="2214720"/>
              <a:ext cx="64296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W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メモ 14"/>
            <p:cNvSpPr/>
            <p:nvPr/>
          </p:nvSpPr>
          <p:spPr>
            <a:xfrm>
              <a:off x="5500800" y="1714320"/>
              <a:ext cx="157140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メモ 15"/>
            <p:cNvSpPr/>
            <p:nvPr/>
          </p:nvSpPr>
          <p:spPr>
            <a:xfrm>
              <a:off x="5500800" y="2214720"/>
              <a:ext cx="7855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メモ 16"/>
            <p:cNvSpPr/>
            <p:nvPr/>
          </p:nvSpPr>
          <p:spPr>
            <a:xfrm>
              <a:off x="6429600" y="2214720"/>
              <a:ext cx="64296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W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メモ 17"/>
            <p:cNvSpPr/>
            <p:nvPr/>
          </p:nvSpPr>
          <p:spPr>
            <a:xfrm>
              <a:off x="7286760" y="1714320"/>
              <a:ext cx="100008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GS創英角ﾎﾟｯﾌﾟ体"/>
                  <a:ea typeface="HGS創英角ﾎﾟｯﾌﾟ体"/>
                </a:rPr>
                <a:t>D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テキスト ボックス 18"/>
            <p:cNvSpPr/>
            <p:nvPr/>
          </p:nvSpPr>
          <p:spPr>
            <a:xfrm>
              <a:off x="1357200" y="3286080"/>
              <a:ext cx="6143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215968"/>
                  </a:solidFill>
                  <a:latin typeface="HGP創英角ﾎﾟｯﾌﾟ体"/>
                  <a:ea typeface="HGP創英角ﾎﾟｯﾌﾟ体"/>
                </a:rPr>
                <a:t>With Post-Its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ame 1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Simple Task Board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(or Scrum-ban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1"/>
          <p:cNvGrpSpPr/>
          <p:nvPr/>
        </p:nvGrpSpPr>
        <p:grpSpPr>
          <a:xfrm>
            <a:off x="1143000" y="1714680"/>
            <a:ext cx="6896160" cy="4230000"/>
            <a:chOff x="1143000" y="1714680"/>
            <a:chExt cx="6896160" cy="4230000"/>
          </a:xfrm>
        </p:grpSpPr>
        <p:sp>
          <p:nvSpPr>
            <p:cNvPr id="94" name="Rectangle 22"/>
            <p:cNvSpPr/>
            <p:nvPr/>
          </p:nvSpPr>
          <p:spPr>
            <a:xfrm>
              <a:off x="114300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3"/>
            <p:cNvSpPr/>
            <p:nvPr/>
          </p:nvSpPr>
          <p:spPr>
            <a:xfrm>
              <a:off x="344160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574056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5"/>
            <p:cNvSpPr/>
            <p:nvPr/>
          </p:nvSpPr>
          <p:spPr>
            <a:xfrm>
              <a:off x="114300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o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344160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In Prog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7"/>
            <p:cNvSpPr/>
            <p:nvPr/>
          </p:nvSpPr>
          <p:spPr>
            <a:xfrm>
              <a:off x="574056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Do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8"/>
            <p:cNvSpPr/>
            <p:nvPr/>
          </p:nvSpPr>
          <p:spPr>
            <a:xfrm>
              <a:off x="1466640" y="2890440"/>
              <a:ext cx="97164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9"/>
            <p:cNvSpPr/>
            <p:nvPr/>
          </p:nvSpPr>
          <p:spPr>
            <a:xfrm>
              <a:off x="1466640" y="4104360"/>
              <a:ext cx="97164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0"/>
            <p:cNvSpPr/>
            <p:nvPr/>
          </p:nvSpPr>
          <p:spPr>
            <a:xfrm>
              <a:off x="3895200" y="2890440"/>
              <a:ext cx="97128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1"/>
            <p:cNvSpPr/>
            <p:nvPr/>
          </p:nvSpPr>
          <p:spPr>
            <a:xfrm>
              <a:off x="6258600" y="2890440"/>
              <a:ext cx="97128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ask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2467080" y="3730680"/>
            <a:ext cx="1984320" cy="745920"/>
          </a:xfrm>
          <a:custGeom>
            <a:avLst/>
            <a:gdLst>
              <a:gd name="textAreaLeft" fmla="*/ 352440 w 1984320"/>
              <a:gd name="textAreaRight" fmla="*/ 1280880 w 1984320"/>
              <a:gd name="textAreaTop" fmla="*/ 99720 h 745920"/>
              <a:gd name="textAreaBottom" fmla="*/ 646200 h 74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-2282529"/>
                <a:lnTo>
                  <a:pt x="20913" y="8930"/>
                </a:lnTo>
                <a:lnTo>
                  <a:pt x="16565" y="0"/>
                </a:lnTo>
                <a:lnTo>
                  <a:pt x="10842" y="8930"/>
                </a:lnTo>
                <a:lnTo>
                  <a:pt x="14661" y="8930"/>
                </a:lnTo>
                <a:arcTo wR="7674" hR="21600" stAng="3117471" swAng="2086650"/>
                <a:lnTo>
                  <a:pt x="8891" y="21327"/>
                </a:lnTo>
                <a:arcTo wR="7674" hR="21600" stAng="5595879" swAng="520412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195879"/>
                <a:lnTo>
                  <a:pt x="8891" y="21327"/>
                </a:lnTo>
                <a:arcTo wR="7674" hR="21600" stAng="5595879" swAng="5204121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4967280" y="3730680"/>
            <a:ext cx="1984320" cy="745920"/>
          </a:xfrm>
          <a:custGeom>
            <a:avLst/>
            <a:gdLst>
              <a:gd name="textAreaLeft" fmla="*/ 352440 w 1984320"/>
              <a:gd name="textAreaRight" fmla="*/ 1280880 w 1984320"/>
              <a:gd name="textAreaTop" fmla="*/ 99720 h 745920"/>
              <a:gd name="textAreaBottom" fmla="*/ 646200 h 74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-2282529"/>
                <a:lnTo>
                  <a:pt x="20913" y="8930"/>
                </a:lnTo>
                <a:lnTo>
                  <a:pt x="16565" y="0"/>
                </a:lnTo>
                <a:lnTo>
                  <a:pt x="10842" y="8930"/>
                </a:lnTo>
                <a:lnTo>
                  <a:pt x="14661" y="8930"/>
                </a:lnTo>
                <a:arcTo wR="7674" hR="21600" stAng="3117471" swAng="2086650"/>
                <a:lnTo>
                  <a:pt x="8891" y="21327"/>
                </a:lnTo>
                <a:arcTo wR="7674" hR="21600" stAng="5595879" swAng="520412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195879"/>
                <a:lnTo>
                  <a:pt x="8891" y="21327"/>
                </a:lnTo>
                <a:arcTo wR="7674" hR="21600" stAng="5595879" swAng="5204121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681200" y="4587840"/>
            <a:ext cx="3214800" cy="538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ＭＳ 明朝"/>
              </a:rPr>
              <a:t>Star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110200" y="4587840"/>
            <a:ext cx="2205000" cy="538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ＭＳ 明朝"/>
              </a:rPr>
              <a:t>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sui</cp:lastModifiedBy>
  <dcterms:modified xsi:type="dcterms:W3CDTF">2009-08-27T23:04:08Z</dcterms:modified>
  <cp:revision>111</cp:revision>
  <dc:subject/>
  <dc:title>The Kanban Game カンバンゲーム</dc:title>
</cp:coreProperties>
</file>